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C496-E45F-4AA7-BF6D-594058FA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E9B-F1EA-46FF-8825-78876867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29BB1-46C9-4AF7-9E05-B82CAE57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450EB-AEA4-49B6-B2E0-4732BB78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4B696-1EFA-4F5E-A68B-CB4E789C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6143D-DE21-4D92-A5FD-EE9DE2CC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65BF0-15F6-4B75-B8E0-CB617D50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53B88-9789-4350-BFFA-E7461C44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08668-A7DA-4CF2-8EAE-8657557D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77465-5713-4CEA-B067-B27184D1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83AE2-96C1-419C-AF49-F3572002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AA40-167B-46CA-8ED4-BF8A3FC8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BA02-CD6F-4CF6-BBDA-284DF230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0E99-E54F-4FFE-B446-89DECD4E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3751-9F0D-40B9-A8FD-C24C46FC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8358-96CB-4877-B6C4-447245DD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C3C2-C9B3-4722-9590-FC734FDD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4184-8DDC-4370-A190-2211784F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9929-D661-476B-8498-DA39DDF1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B8A0-4C26-48B0-8BFE-84DAA2BA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9CB-1479-40A7-BFEA-F6F34B69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800A-5974-4157-A6F3-D9F22990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FEE1-8742-4DBE-B127-CD009A25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0055-A704-44AA-9041-77B1C42D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FCD5-1482-485E-A379-6A247C0B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DCB7-E7DD-466F-B03A-265E7577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C3622-8A5F-4E2F-82AA-57851374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041B4-2F4F-4939-A97C-B070254E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7F10C-C063-4D14-BF9A-C45376A4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0E0AD-31AE-4872-96A8-912440AB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3CAAE-85CB-4C6F-B8EE-292FF34F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E590-812D-44C8-B5A3-15F22763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DA30-FC8B-4060-9792-24CFC376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6E336-F14F-45BA-98D1-C944FBA2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D62ED-6106-4637-8DCA-7F551C52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08370-F7CB-42CF-AEEC-CA5E50D3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1AF61-7ADE-4042-879E-619CFDBF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344BC-CF41-4754-AD8A-BBF2A9F6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88032-29CB-4DE8-804C-D2F85A87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B83B0-D592-4091-A0D5-B62468A3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6FEAD-7710-4970-B44B-6075BD51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AEEC8-47BA-4EE8-A208-C9CC46A7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1FE-13AE-45E4-8B1C-4ADC39DC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47535-F36F-42AF-9FE1-58BF3DFE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9510A-472E-43CC-99B4-5653A382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F062E-8989-4ED7-A19B-C02EA449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B0D2E-F543-4667-9182-B6C0B4A6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AFFCD-1FBB-472E-8007-4CC82F40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4587F-D9A9-4F1E-A9A6-20FF7E8A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424C0-D90E-4BE1-A0C9-5B2C2258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83870-8EE1-43D4-8875-F1DDCCE7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74B08-ADEF-45AB-B3EA-E9CE2349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65AF1-280E-4D7D-915D-431096B1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B48-ECCB-49AF-9608-1E2DB23D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0D4F1-958B-47EA-A612-450E1E06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B0300-52AD-4B7F-B8BC-1B208A3D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F2040-8B8C-4CD0-BF4D-BDD02068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01F35-F5ED-4C36-B2E1-274404F9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36712-0CDC-4366-A02F-1635FF59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961CC-E869-4567-9825-CE042499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DB0F3-7BBA-43DB-B060-3AFA2FB2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73445-41FE-4736-A601-9A6EED1F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712C4-E8B0-4364-85CF-8AB21F99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808C2-026D-4CA3-8264-A6CAEF8C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440-998D-4135-8E1D-521B7E23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BB9B1-DA1A-4612-BCD2-771EFB81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3CDD9-7379-416E-B95C-4436A92C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AB721-A387-47A0-B661-8FBF75BB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CAB80-C5A5-460F-92BF-E8BAFB60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A77CA-0A42-4932-BBF1-28BB8000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4111B-B4B3-4AC6-BEBC-D015485D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A52AE-40DC-441B-BE6E-8125496A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68BA4-E5BE-4262-BC73-BAE7D504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500AD-BDA3-4E2E-878F-A1511F76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95D30-FC19-4B88-B1F5-06DDA399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023-A2FD-4669-B485-899988E2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07047-F071-45B9-BB99-75655C51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B3073-4EBD-45F6-98D0-0593E5E8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E5FBA-2E8F-4C78-A6B4-859F69EC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1E3E7-5535-40D6-9358-7CBF0384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4A721-3E23-4F88-8B60-F5977E54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B995E-D6B7-401C-B1D7-CC1E4C07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0A0F5-9BA6-4665-8E2A-83F0A448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62DA3-39BE-4D2E-9868-A70B91C8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DFD2D-69F3-41C8-8132-6457648D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AEDD7-5CAA-4546-BC25-26071AD5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8AC-6AB8-499E-AC2E-A7BCFB36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FD53D-E3FE-462B-81B4-B8A7FFA0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BF0A1-02AD-4CD5-8DF1-FD58E4BB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FE695-03FE-4890-94B5-B94A9C61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C5363-B793-47CE-B211-539140CD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34FF6-F809-447A-A0DA-0523D3A4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7DA67-42FA-481E-8BBC-4F437B8C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A9710-78F3-4454-88E5-141C7F9C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44710-2A6A-439C-AA3C-16F31C1C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846FB-B290-4A30-868C-03CCA4D4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88002-E1B4-49F5-AD03-7527FBC4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6E0-FA1E-4A38-A261-6042BC90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E96CF-CB6F-4600-BB97-18464CF9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52B97-C008-4A96-B06C-9F93DE21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2C07D-A6E3-417B-9194-D38644BE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2019D-5A33-4408-882A-1FFB0CF9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CBC4A-8963-4E6F-A1DB-7522A209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0B7F5-77AD-4AE5-A824-A9F609F8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88A00-2D4A-485E-8F4A-222F6802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CECC0-F73F-4648-9E00-3D419316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2A3AB-25AB-4B4B-A4E0-3000FADC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B63C6-DB7C-4FF8-874A-BC84D78A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9ABD-DB8C-401B-A6AA-0BAA740BA05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54D0-D36B-47E9-954A-4F487655CE1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FD4E-F4E8-475B-95D9-3CB66DBF8B2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895F-1A94-410F-99A4-8F63A7BAD9A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6DF9-1C29-41DA-BB16-0525AF7432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AF72-33E1-4964-ACBB-E635659DF30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04FE-C621-4693-A25B-6CBF1A3DC6C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FF65-E337-4C53-A051-74AEA3B2333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9005-D8F6-4F0B-BF5B-D36209C3F57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603360" y="79200"/>
            <a:ext cx="7791480" cy="24624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133720" y="5486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Arial"/>
              </a:rPr>
              <a:t>Подготовила: Т.И. Ковалев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Arial"/>
              </a:rPr>
              <a:t>педагог-психолог МБОУ гимназия №7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43329"/>
                </a:solidFill>
                <a:latin typeface="Arial"/>
              </a:rPr>
              <a:t>г. Крымск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4" descr="fft99_mf1343149"/>
          <p:cNvPicPr/>
          <p:nvPr/>
        </p:nvPicPr>
        <p:blipFill>
          <a:blip r:embed="rId2"/>
          <a:stretch/>
        </p:blipFill>
        <p:spPr>
          <a:xfrm>
            <a:off x="1676520" y="2286000"/>
            <a:ext cx="518148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"/>
          <p:cNvSpPr/>
          <p:nvPr/>
        </p:nvSpPr>
        <p:spPr>
          <a:xfrm flipV="1" rot="10800000">
            <a:off x="533160" y="-34200"/>
            <a:ext cx="83818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  <a:ea typeface="Times New Roman"/>
              </a:rPr>
              <a:t>Коррекционное занятие включает в себя  основные этап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сенсорная интеграция, ритмическая деятельность, обра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вспомогательные этапы работа с тонусом, развитие глаз-рука, пространственное восприят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"/>
          <p:cNvSpPr/>
          <p:nvPr/>
        </p:nvSpPr>
        <p:spPr>
          <a:xfrm>
            <a:off x="228600" y="218520"/>
            <a:ext cx="8686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ahoma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Сенсорная интегр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Формирование у ребенка представление о себ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Развитие произволь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Развитие пространственных представл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Формирование и коррекция восприятия схемы те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762120" y="316800"/>
            <a:ext cx="77724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  <a:ea typeface="Times New Roman"/>
              </a:rPr>
              <a:t>Основные принцип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Опора на зону ближайшего развит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чет мотивации ребенка, уважение его потреб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чет особенностей моторики, сенсор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чет  способа мышления, коммуникативных способ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685800" y="389880"/>
            <a:ext cx="77724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  <a:ea typeface="Times New Roman"/>
              </a:rPr>
              <a:t>Занятие строится по плану, который включает в себ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точнение общей мотор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становление конта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Определение актуального состояния реб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одбор дидактических заданий на основе интереса реб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0" name="Picture 4" descr="https://psypedprofi.ru/wp-content/uploads/2021/01/2021-01-04_12-06-37.png"/>
          <p:cNvPicPr/>
          <p:nvPr/>
        </p:nvPicPr>
        <p:blipFill>
          <a:blip r:embed="rId1"/>
          <a:stretch/>
        </p:blipFill>
        <p:spPr>
          <a:xfrm>
            <a:off x="4648320" y="3352680"/>
            <a:ext cx="4038480" cy="2837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Прямоугольник 3"/>
          <p:cNvSpPr/>
          <p:nvPr/>
        </p:nvSpPr>
        <p:spPr>
          <a:xfrm>
            <a:off x="1066680" y="45720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сихологическая работа должна проходить в тесном сотрудничестве с </a:t>
            </a: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родител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Picture 2" descr="https://spec-school.crm.eduru.ru/media/2020/01/28/1250355437/hello_html_1a4328b.png"/>
          <p:cNvPicPr/>
          <p:nvPr/>
        </p:nvPicPr>
        <p:blipFill>
          <a:blip r:embed="rId1"/>
          <a:stretch/>
        </p:blipFill>
        <p:spPr>
          <a:xfrm>
            <a:off x="609480" y="1951200"/>
            <a:ext cx="8305920" cy="4906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-360" y="914040"/>
            <a:ext cx="8991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99"/>
                </a:solidFill>
                <a:latin typeface="Arial"/>
                <a:ea typeface="Arial"/>
              </a:rPr>
              <a:t>СПАСИБО                    ЗА ВНИМАНИЕ !!!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Главная сложность -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заключается в отсутствии собственной мотивации к развитию и обучению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евозможность установления «общего языка» между специалистом и ребенком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Picture 5" descr="https://avatars.mds.yandex.net/i?id=fdb1279dd8ac7f4bd5e24c03c38c0d91c9f1c090-5584275-images-thumbs&amp;n=13"/>
          <p:cNvPicPr/>
          <p:nvPr/>
        </p:nvPicPr>
        <p:blipFill>
          <a:blip r:embed="rId1"/>
          <a:stretch/>
        </p:blipFill>
        <p:spPr>
          <a:xfrm>
            <a:off x="3733920" y="2416320"/>
            <a:ext cx="504828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0" y="2383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Триада РАС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ереотип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ецифические нарушения реч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ушение коммуникаци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5" name="Picture 9" descr="C:\Users\admin\Desktop\триада.bmp"/>
          <p:cNvPicPr/>
          <p:nvPr/>
        </p:nvPicPr>
        <p:blipFill>
          <a:blip r:embed="rId1"/>
          <a:stretch/>
        </p:blipFill>
        <p:spPr>
          <a:xfrm>
            <a:off x="2057400" y="2514600"/>
            <a:ext cx="4915080" cy="3774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4"/>
          <p:cNvSpPr/>
          <p:nvPr/>
        </p:nvSpPr>
        <p:spPr>
          <a:xfrm>
            <a:off x="762120" y="38088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Используем исходную мотивацию как инструмент для его обучения. Начинаем с того что ему сейчас интересно, а потом постепенно расширяем взаимодейств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Picture 5" descr="https://micolock.ru/wp-content/uploads/9/8/d/98d823ae13c39776541c50a9ee9a747c.jpeg"/>
          <p:cNvPicPr/>
          <p:nvPr/>
        </p:nvPicPr>
        <p:blipFill>
          <a:blip r:embed="rId1"/>
          <a:stretch/>
        </p:blipFill>
        <p:spPr>
          <a:xfrm>
            <a:off x="3962520" y="3200400"/>
            <a:ext cx="4647960" cy="3098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14-1"/>
          <p:cNvPicPr/>
          <p:nvPr/>
        </p:nvPicPr>
        <p:blipFill>
          <a:blip r:embed="rId1"/>
          <a:stretch/>
        </p:blipFill>
        <p:spPr>
          <a:xfrm>
            <a:off x="1752480" y="2362320"/>
            <a:ext cx="5334120" cy="320040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4"/>
          <p:cNvSpPr/>
          <p:nvPr/>
        </p:nvSpPr>
        <p:spPr>
          <a:xfrm>
            <a:off x="838080" y="3808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Коррекционная работа основывается на компенсации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дифицитарных сфер развития с опорой на сохранные сф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4"/>
          <p:cNvSpPr/>
          <p:nvPr/>
        </p:nvSpPr>
        <p:spPr>
          <a:xfrm>
            <a:off x="685800" y="152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Признаки тактильной дисфункций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персинсетивность и гипосенситивно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1" name="Picture 5" descr="https://fb.ru/misc/i/gallery/53302/3007019.jpg"/>
          <p:cNvPicPr/>
          <p:nvPr/>
        </p:nvPicPr>
        <p:blipFill>
          <a:blip r:embed="rId1"/>
          <a:stretch/>
        </p:blipFill>
        <p:spPr>
          <a:xfrm>
            <a:off x="1676520" y="1600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5" descr="https://fb.ru/misc/i/gallery/53302/3007019.jpg"/>
          <p:cNvPicPr/>
          <p:nvPr/>
        </p:nvPicPr>
        <p:blipFill>
          <a:blip r:embed="rId1"/>
          <a:stretch/>
        </p:blipFill>
        <p:spPr>
          <a:xfrm>
            <a:off x="4038480" y="28195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"/>
          <p:cNvSpPr/>
          <p:nvPr/>
        </p:nvSpPr>
        <p:spPr>
          <a:xfrm>
            <a:off x="609480" y="60588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и нарушении работы </a:t>
            </a:r>
            <a:r>
              <a:rPr b="1" lang="ru-RU" sz="2000" spc="-1" strike="noStrike">
                <a:solidFill>
                  <a:srgbClr val="c00000"/>
                </a:solidFill>
                <a:latin typeface="Tahoma"/>
                <a:ea typeface="Times New Roman"/>
              </a:rPr>
              <a:t>вистибуляр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при гиперчувствительности ребенок будет избегать площадок, горок, лестниц и т.д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и гипочувствительности ребенок стремится докомпенсировать, то есть не сидеть на месте, прыгать, экстремально спускаться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https://myslide.ru/documents_7/e7796fe0f5648564fc1bc4702e834c4b/img8.jpg"/>
          <p:cNvPicPr/>
          <p:nvPr/>
        </p:nvPicPr>
        <p:blipFill>
          <a:blip r:embed="rId1"/>
          <a:stretch/>
        </p:blipFill>
        <p:spPr>
          <a:xfrm>
            <a:off x="-127080" y="0"/>
            <a:ext cx="9271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https://mediaex.ru/wp-content/uploads/f/2/5/f25536810cbf8cdcaaa47e36186bac79.jpeg"/>
          <p:cNvPicPr/>
          <p:nvPr/>
        </p:nvPicPr>
        <p:blipFill>
          <a:blip r:embed="rId1"/>
          <a:stretch/>
        </p:blipFill>
        <p:spPr>
          <a:xfrm>
            <a:off x="685800" y="380880"/>
            <a:ext cx="8077320" cy="6327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cp:lastPrinted>2016-05-30T08:54:26Z</cp:lastPrinted>
  <dcterms:modified xsi:type="dcterms:W3CDTF">2023-05-29T09:04:5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