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1CE-FD36-4560-9521-C505CE4F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ABA-B588-4DA4-8969-D7837608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C74-3C34-4EC3-ADF6-25605187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B71-4951-4D2D-8A0A-44AEA77F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565A-55B0-4C94-8750-E89E47DE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7FB8-B012-421F-A679-505E72FA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E020-E657-4272-9D72-5F370D18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EA46-FE08-4874-A2EF-AB518252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DB94-84E7-4FC3-8D74-83086717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A176-E555-4129-87A6-35B6A59B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8C69-27F4-404B-A4F0-6307EF5C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C8E-DFDB-4D2E-AA33-D75A4F88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1E6F-5A8D-40B0-8075-0424229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71AA-2032-4EE5-8513-9E51628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5D55-D2D9-4C0B-A770-1AFB71F1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E5D2-82F5-419E-9653-E00CBF83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26FD-A9F2-4223-8987-CC82CD5A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71C-C228-4D71-8F92-E6665CCC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055-C4F8-4D5E-8C5C-EBA1B780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133-7BB3-4DE7-B35D-F35EF0F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743-1413-480D-9BC4-285B5DBF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D63-8070-4075-8560-B38ED4F5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270-9BF6-434D-95E4-AB4AC3A3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124-0A2D-4FC4-BF1C-9B79633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4D27-FC2F-4329-AB3D-4480638EFE5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507B-3FF7-421F-8721-EA6824AD547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0000" y="4723920"/>
            <a:ext cx="59770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ударственное казенное общеобразовательное учреждение Краснодарского края специальная (коррекционная) школа-интернат г.Краснода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26640" y="1367640"/>
            <a:ext cx="72878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держание работы педагога-психолога в деятельности школьного психолого-педагогического консилиу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8560" y="397080"/>
            <a:ext cx="7929000" cy="188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еречень документов для представления обучающегося на ПМПК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Копия паспорта или свидетельства о рождении ребенка (предоставляются с предъявлением оригинала или заверенной в установленном порядке копии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Родителем (законным представителем) предоставляется документ, удостоверяющий его личность, а также документы, подтверждающие полномочия по представлению интересов ребе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Направление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азовательной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ац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 Подробная выписка из истории развития ребенка с заключениями врачей из медицинской организации по месту жительства (регистрации) по форме; заключения врачей-специалистов, наблюдающих ребе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Психолого-педагогическая характеристика на обучающегося, выданная образовательной организаци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6. Выписка из электронного журнала текущих оцено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.Письменные работы обучающегося по русскому (родному) языку, математике за учебный год (копии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8.Результаты предыдущих обследований ребенка (заключен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9. Справка МСЭ  (коп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исьмо Минпросвещения Росси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т 08.02.2019года №ТС-421/0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письме Минпросвещения России обращается внимание на необходимость повышения эффективности работы служб психолого-педагогического сопровождения обучающихся с нарушением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я и письм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Учение без мучения»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.М.Зегебар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2" descr="D:\Изображение 008.jpg"/>
          <p:cNvPicPr/>
          <p:nvPr/>
        </p:nvPicPr>
        <p:blipFill>
          <a:blip r:embed="rId1"/>
          <a:stretch/>
        </p:blipFill>
        <p:spPr>
          <a:xfrm>
            <a:off x="1370160" y="2362320"/>
            <a:ext cx="270648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5348160" y="2362320"/>
            <a:ext cx="25956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image.jpg"/>
          <p:cNvPicPr/>
          <p:nvPr/>
        </p:nvPicPr>
        <p:blipFill>
          <a:blip r:embed="rId1"/>
          <a:stretch/>
        </p:blipFill>
        <p:spPr>
          <a:xfrm>
            <a:off x="179280" y="115920"/>
            <a:ext cx="882036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9160" y="553680"/>
            <a:ext cx="7769880" cy="10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ЕЙС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прос со стороны родителей (законных представителей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Девочка 10 лет, обучается в 4 классе общеобразовательной организац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од обращ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итель ежедневно «Жалуется» на невнимательность, неусидчивость, что часто забывает школьные принадлежности, не выполняет домашние задания, отвлекает одноклассников во время уроков, падает успеваемость по математике и русскому языку, активно отстаивает свое мнение в споре как с педагогом, так и с одноклассниками, импульсивна, демонстратив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ЕЙС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прос со стороны учителя начальных класс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Мальчик 8 лет, обучается во 2 классе в общеобразовательной организации по АООП для обучающихся с ЗПР, вариант 7.2» организац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чина обращ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учающийся в учебной деятельности  показывает слабые знания по основным предметам: математика, русский язык, чтение. С выполнением контрольных работ ученик не справился. перенос умений на учебную деятельность непродуктивен, низкая работоспособность и продуктивность, истощаемость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ка познавательного развития отсутствуе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C:\Users\Андрей\Pictures\шк4.png"/>
          <p:cNvPicPr/>
          <p:nvPr/>
        </p:nvPicPr>
        <p:blipFill>
          <a:blip r:embed="rId1"/>
          <a:stretch/>
        </p:blipFill>
        <p:spPr>
          <a:xfrm>
            <a:off x="-65160" y="2133720"/>
            <a:ext cx="9209160" cy="3181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419280" y="5373360"/>
            <a:ext cx="526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Zhanna.uqolskaya@mail.r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ЛАГОДАРЮ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480" y="621720"/>
            <a:ext cx="777924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2" descr="C:\Users\Отдел кадров\Desktop\семинар\Изображение.jpg"/>
          <p:cNvPicPr/>
          <p:nvPr/>
        </p:nvPicPr>
        <p:blipFill>
          <a:blip r:embed="rId1"/>
          <a:stretch/>
        </p:blipFill>
        <p:spPr>
          <a:xfrm>
            <a:off x="942840" y="2362320"/>
            <a:ext cx="3178440" cy="423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8057" t="9309" r="57140" b="5617"/>
          <a:stretch/>
        </p:blipFill>
        <p:spPr>
          <a:xfrm>
            <a:off x="5291280" y="2362320"/>
            <a:ext cx="30286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0920" y="2362320"/>
            <a:ext cx="39970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ЭТИЧЕС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КОДЕК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дагога-психолога службы практической психолог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азования Росс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ят на Всероссийском съезде практических психологов образов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60640" y="2362320"/>
            <a:ext cx="39877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СНОДАРСКИЙ КРАЕВОЙ ИНСТИТУТ ДОПОЛНИТЕЛЬНОГО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ФЕССИОНАЛЬНОГО ПЕДАГОГИЧЕСКОГО ОБРАЗОВАНИ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ЧАЯ ТЕТРАДЬ ШКОЛЬНОГО ПСИХОЛОГА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Авторы-составители: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Рыженко С. К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кандидат психологических наук, заведующая кафедрой психологи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Краснодарского краевого института дополнительного профессионального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педагогического образова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Чернявская О.С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старший преподаватель кафедры психологии Краснодарского краевого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института дополнительного профессионального педагогического образова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Рецензенты: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Кузма Л.П., Ефрюшкина О.В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7000" y="702360"/>
            <a:ext cx="7761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ринципы П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2320"/>
            <a:ext cx="8197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гуман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омплексного из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всестороннего и целостного изучения ребе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индивидуализированности изучения ребенка 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етом их возрастных и характерологических особеннос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динамического из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а обучающего эксперимен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ачественно-количественного подх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56360" y="834120"/>
            <a:ext cx="83149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Компоненты </a:t>
            </a:r>
            <a:br>
              <a:rPr sz="3200"/>
            </a:b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сихолого-педагогического сопровожд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провождение тьютора, ассист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полнительные занятия  с педагог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дефектологом (сурдопедагогом, тифлопедагогом, олигофренопедагого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логопед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психолог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социальным педагог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ЛФК, занятия в специальной физкультурной группе, ритмико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ая оценка состояния ребенка на ПП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34440" y="810720"/>
            <a:ext cx="7322040" cy="163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Этапы консилиумной  деятельности психолога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варительны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ализ актуальных ресурсов специалистов ОУ, анализ рекомендаций и условий включения ребенка , в том числе анализ документов и определение последовательности «прохождения» специалист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вы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следование ребенка профильными специалистами (в том числе и психологом). Составление индивидуальных заключений всеми специалистами консилиум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торо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легиальное обсуждение специалистами полученных результатов обследования. Координация и согласованность взаимодействия специалистов. Определение тактики сопровождения ребенка в инклюзивном пространстве ОУ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ти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лизация решений консилиума ОУ силами специалистов ОУ (внеурочная коррекционно-развивающая работа, включение абилитационной помощи в процесс обучения и воспитания и т.п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ершающи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ое/итоговое обследование ребенка (оценка состояния ребенка после окончания цикла сопровождения, учебного года, ступени образован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Задачи деятельности в процессе сопровождения обучающегося с ОВЗ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0000" y="2361960"/>
            <a:ext cx="8064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астие в разработ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видуального Образовательного Плана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ИОП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ая оценка эффективности реализации ИОП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индивидуализированного образовательного маршрута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ррекционных программ в рамках психолого-педагогическ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провождения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образовательной траектории ребенка в О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ординация взаимодействия специалистов по оказанию дополнительной специализированной помощи обучающим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Равнобедренный треугольник 3"/>
          <p:cNvSpPr/>
          <p:nvPr/>
        </p:nvSpPr>
        <p:spPr>
          <a:xfrm>
            <a:off x="1547640" y="2205000"/>
            <a:ext cx="6120000" cy="4464000"/>
          </a:xfrm>
          <a:prstGeom prst="triangle">
            <a:avLst>
              <a:gd name="adj" fmla="val 5019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Прямая соединительная линия 5"/>
          <p:cNvSpPr/>
          <p:nvPr/>
        </p:nvSpPr>
        <p:spPr>
          <a:xfrm>
            <a:off x="3492360" y="3860640"/>
            <a:ext cx="2232000" cy="0"/>
          </a:xfrm>
          <a:prstGeom prst="line">
            <a:avLst/>
          </a:prstGeom>
          <a:ln w="22320">
            <a:solidFill>
              <a:srgbClr val="003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2771640" y="2637000"/>
            <a:ext cx="374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город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ПМП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2556000" y="5300640"/>
            <a:ext cx="4103640" cy="0"/>
          </a:xfrm>
          <a:prstGeom prst="line">
            <a:avLst/>
          </a:prstGeom>
          <a:ln w="22320">
            <a:solidFill>
              <a:srgbClr val="003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8080" y="825840"/>
            <a:ext cx="7874280" cy="8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дель сопровождения обучаю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Прямоугольник 19"/>
          <p:cNvSpPr/>
          <p:nvPr/>
        </p:nvSpPr>
        <p:spPr>
          <a:xfrm>
            <a:off x="1763640" y="3933720"/>
            <a:ext cx="56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школ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исты   сопровожд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сихолог, социальный педагог, логопед, дефектоло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2195640" y="544500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детского коллекти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ный руководите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06320" y="499680"/>
            <a:ext cx="816336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Организация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психолого-педагогического сопровождения обучающегося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2320"/>
            <a:ext cx="7981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1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заключению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2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основании медицинского заклю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3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явление обучающихся с особыми образовательными потребност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4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ация ПП сопровождения для обучающихся, испытывающего трудности в усвоении образовательных программ, развитии и социализации адапт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do</dc:creator>
  <dc:description/>
  <dc:language>en-US</dc:language>
  <cp:lastModifiedBy>39PC</cp:lastModifiedBy>
  <dcterms:modified xsi:type="dcterms:W3CDTF">2022-10-20T12:33:32Z</dcterms:modified>
  <cp:revision>115</cp:revision>
  <dc:subject/>
  <dc:title>PowerPoint Presentation</dc:title>
</cp:coreProperties>
</file>