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4.png" ContentType="image/png"/>
  <Override PartName="/ppt/media/image1.png" ContentType="image/pn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ECC9-79F8-4A1C-ACA2-17AE1069C1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3258-B620-452A-80DC-6935A16113D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егодня многие семьи переживают тяжелый кризис. Утрачено значительное число семейно-нравственных традиций, изменилось отношение родителей к детям. В новых кризисных условиях семья не готова взять на себя ответственность за воспитание детей, так как изменившиеся экономические условия заставляют родителей большей частью искать источники существования; а не заниматься вопросами воспитания детей в семье. В этой ситуации неустойчивые семьи стали более нестабильными и деградируют, фактически бросая своих детей на произвол судь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удшается психологический климат и в устойчивых семьях. Резкое увеличение стрессовых ситуаций у родителей сказывается на детях. Именно семейное неблагополучие является предпосылкой разных деформаций процесса социализации личности ребенка, что проявляется, в конечном счете, в безнадзорности либо беспризорности несовершеннолет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лагополучие семьи обычно отражается на всех сферах жизни ребенка: школьная успеваемость снижается, появляется отчуждение к школе, уличная компания становится заменой авторитета родителей, в ней ребенок старается получить призн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E64A-AFC4-429E-8B6B-55BA0B6EBAF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1EA7-F7D6-4CF9-B08B-D50CF8285A7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288D-466C-4DB7-945A-4E689736ADE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CD99A-A7D9-40AC-A936-759AD8E7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79EEC-B2B6-4A80-B85F-07440762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584E-97A7-49C2-A75B-19C51B22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A7DC6-35CE-4D7B-BE7B-A8E46C67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A1318-E990-4DCD-BC16-CFBE53E9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A9500-CA7B-4A53-B94E-2423B103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B5AC5-7BFF-4865-9FB0-C56F8120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48D99-A667-484B-9774-8B0C5521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68473-C143-4C32-84EC-35AF2BF2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7CDB9-6EC7-4E48-AD37-848F2E62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5B779-7F4D-4F6B-9A46-63AE426C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8F3C-025D-4819-8DE5-1D70646C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676A9-380E-4CB7-BCCF-FE690715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03A3E-7D7D-4E51-B183-FE725F89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B0E51-26B8-45DF-BB3C-2B945331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857CF-5EE4-4729-A7A2-FC784976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E0740-A6C2-4A50-9E50-31E0473F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7E552-1F0F-4240-A333-D57BF294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ADFE4-B11D-483A-8F14-A86ECF7E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C9CF95-6627-49DA-B88A-5E92A3ED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B48F96-1D99-4156-8E8E-78895F36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36F3FB-60CC-4FCA-AEC1-6C8AB558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ECD5-A467-497F-9E0F-554DE4C7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41B91F-7DCA-4A6F-AE92-57E9472B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BA64C-B496-43ED-BFF1-52138172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AAF626-2E03-4861-8F6F-40487E44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CE702B-FDE7-4618-B667-1F80BFBC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70937F-55CA-423C-84AB-D3BD678B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D8A6E0-2E80-49C4-AF75-782CE0AF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FACB82-2746-4344-90C1-6B7619DE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050B2-242E-48F3-BA44-47C9AD42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B79A-472B-44D6-B926-EEA6DF64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8B1E3-DEE9-4F6D-BD71-2D3ED69D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3F181-816C-4FBB-A628-1442D977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52D90-0DB0-43BF-A888-147C4AC8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77D1D-B15F-4C65-BB42-20350E25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phere2.png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77240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BCAB-313E-4B57-9693-67EBFE46C899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87656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487512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sphere2.png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sphere1.png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58272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415200" y="6400440"/>
            <a:ext cx="4572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003B-1A81-47A8-A0A3-757A2FD7EA48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58128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sphere1.png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83952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411624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6C92-9493-458C-B6D0-A3BDADDC4015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9"/>
          </p:nvPr>
        </p:nvSpPr>
        <p:spPr>
          <a:xfrm>
            <a:off x="83808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9080" y="66600"/>
            <a:ext cx="6732720" cy="50752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3"/>
          <p:cNvSpPr/>
          <p:nvPr/>
        </p:nvSpPr>
        <p:spPr>
          <a:xfrm>
            <a:off x="1908000" y="3860640"/>
            <a:ext cx="53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Профилактика и безнадзорности и правонарушений среди обучаю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340560" y="5732640"/>
            <a:ext cx="62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-психолог :                                   Константинова Е.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БУ СОШ№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м.Е.В.Хлудеева г.Лаби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2"/>
          <p:cNvSpPr/>
          <p:nvPr/>
        </p:nvSpPr>
        <p:spPr>
          <a:xfrm>
            <a:off x="179280" y="0"/>
            <a:ext cx="756144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entury Gothic"/>
                <a:ea typeface="Times New Roman"/>
              </a:rPr>
              <a:t>Памятка родителям от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алуйте меня, вы меня этим порти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очень хорошо знаю, что не обязательно предоставлять мне все, что я прош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росто испытываю в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йтесь быть твердым со м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редпочитаю именно такой подход. Это позволяет мне определить свое 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C:\Users\cvb\Desktop\333\88\podrostki.jpg"/>
          <p:cNvPicPr/>
          <p:nvPr/>
        </p:nvPicPr>
        <p:blipFill>
          <a:blip r:embed="rId1"/>
          <a:stretch/>
        </p:blipFill>
        <p:spPr>
          <a:xfrm>
            <a:off x="5508720" y="3645000"/>
            <a:ext cx="273672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Заголовок 1" descr=""/>
          <p:cNvPicPr/>
          <p:nvPr/>
        </p:nvPicPr>
        <p:blipFill>
          <a:blip r:embed="rId1"/>
          <a:stretch/>
        </p:blipFill>
        <p:spPr>
          <a:xfrm>
            <a:off x="396720" y="401760"/>
            <a:ext cx="8277480" cy="296388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2" descr="photo_5339549513741883887_y.jpg"/>
          <p:cNvPicPr/>
          <p:nvPr/>
        </p:nvPicPr>
        <p:blipFill>
          <a:blip r:embed="rId2"/>
          <a:stretch/>
        </p:blipFill>
        <p:spPr>
          <a:xfrm>
            <a:off x="2411280" y="3500280"/>
            <a:ext cx="3384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2" descr="Снимок.PNG"/>
          <p:cNvPicPr/>
          <p:nvPr/>
        </p:nvPicPr>
        <p:blipFill>
          <a:blip r:embed="rId1"/>
          <a:stretch/>
        </p:blipFill>
        <p:spPr>
          <a:xfrm>
            <a:off x="611280" y="1390680"/>
            <a:ext cx="7921440" cy="4702320"/>
          </a:xfrm>
          <a:prstGeom prst="rect">
            <a:avLst/>
          </a:prstGeom>
          <a:ln w="0">
            <a:noFill/>
          </a:ln>
        </p:spPr>
      </p:pic>
      <p:pic>
        <p:nvPicPr>
          <p:cNvPr id="186" name="Заголовок 1" descr=""/>
          <p:cNvPicPr/>
          <p:nvPr/>
        </p:nvPicPr>
        <p:blipFill>
          <a:blip r:embed="rId2"/>
          <a:stretch/>
        </p:blipFill>
        <p:spPr>
          <a:xfrm>
            <a:off x="542880" y="457200"/>
            <a:ext cx="80582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Выгнутая вправо стрелка 13"/>
          <p:cNvSpPr/>
          <p:nvPr/>
        </p:nvSpPr>
        <p:spPr>
          <a:xfrm rot="759000">
            <a:off x="6538680" y="1842840"/>
            <a:ext cx="2027160" cy="4537080"/>
          </a:xfrm>
          <a:custGeom>
            <a:avLst/>
            <a:gdLst>
              <a:gd name="textAreaLeft" fmla="*/ 271440 w 2027160"/>
              <a:gd name="textAreaRight" fmla="*/ 1755720 w 2027160"/>
              <a:gd name="textAreaTop" fmla="*/ 944280 h 4537080"/>
              <a:gd name="textAreaBottom" fmla="*/ 333936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91" stAng="-5400000" swAng="5400000"/>
                <a:lnTo>
                  <a:pt x="21600" y="11403"/>
                </a:lnTo>
                <a:arcTo wR="21600" hR="8991" stAng="0" swAng="3491241"/>
                <a:lnTo>
                  <a:pt x="5400" y="21315"/>
                </a:lnTo>
                <a:lnTo>
                  <a:pt x="0" y="19187"/>
                </a:lnTo>
                <a:lnTo>
                  <a:pt x="5400" y="16489"/>
                </a:lnTo>
                <a:lnTo>
                  <a:pt x="5400" y="17696"/>
                </a:lnTo>
                <a:arcTo wR="21600" hR="8991" stAng="3491241" swAng="-3297754"/>
                <a:lnTo>
                  <a:pt x="21405" y="10197"/>
                </a:lnTo>
                <a:arcTo wR="21600" hR="8991" stAng="-193487" swAng="-5206513"/>
                <a:close/>
              </a:path>
              <a:path fill="darkenLess" w="21600" h="21600">
                <a:moveTo>
                  <a:pt x="0" y="0"/>
                </a:moveTo>
                <a:arcTo wR="21600" hR="8991" stAng="-5400000" swAng="5400000"/>
                <a:lnTo>
                  <a:pt x="21600" y="11403"/>
                </a:lnTo>
                <a:arcTo wR="21600" hR="8991" stAng="0" swAng="-193487"/>
                <a:lnTo>
                  <a:pt x="21405" y="10197"/>
                </a:lnTo>
                <a:arcTo wR="21600" hR="8991" stAng="-193487" swAng="-5206513"/>
                <a:close/>
              </a:path>
            </a:pathLst>
          </a:custGeom>
          <a:gradFill rotWithShape="0">
            <a:gsLst>
              <a:gs pos="0">
                <a:srgbClr val="edb4ea"/>
              </a:gs>
              <a:gs pos="100000">
                <a:srgbClr val="b67db3"/>
              </a:gs>
            </a:gsLst>
            <a:lin ang="15444000"/>
          </a:gradFill>
          <a:ln w="9360">
            <a:solidFill>
              <a:srgbClr val="b477b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Группа 3"/>
          <p:cNvGrpSpPr/>
          <p:nvPr/>
        </p:nvGrpSpPr>
        <p:grpSpPr>
          <a:xfrm>
            <a:off x="95400" y="476280"/>
            <a:ext cx="6960960" cy="6070680"/>
            <a:chOff x="95400" y="476280"/>
            <a:chExt cx="6960960" cy="6070680"/>
          </a:xfrm>
        </p:grpSpPr>
        <p:grpSp>
          <p:nvGrpSpPr>
            <p:cNvPr id="139" name="Группа 1"/>
            <p:cNvGrpSpPr/>
            <p:nvPr/>
          </p:nvGrpSpPr>
          <p:grpSpPr>
            <a:xfrm>
              <a:off x="606600" y="1863360"/>
              <a:ext cx="5613480" cy="4683600"/>
              <a:chOff x="606600" y="1863360"/>
              <a:chExt cx="5613480" cy="4683600"/>
            </a:xfrm>
          </p:grpSpPr>
          <p:pic>
            <p:nvPicPr>
              <p:cNvPr id="140" name="Picture 6" descr="ÐÐ°ÑÑÐ¸Ð½ÐºÐ¸ Ð¿Ð¾ Ð·Ð°Ð¿ÑÐ¾ÑÑ ÐºÐ¾Ð½ÑÐ»Ð¸ÐºÑ Ð² ÑÐºÐ¾Ð»Ðµ"/>
              <p:cNvPicPr/>
              <p:nvPr/>
            </p:nvPicPr>
            <p:blipFill>
              <a:blip r:embed="rId1"/>
              <a:stretch/>
            </p:blipFill>
            <p:spPr>
              <a:xfrm>
                <a:off x="606600" y="1936440"/>
                <a:ext cx="2270880" cy="256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831840" y="1936440"/>
                <a:ext cx="2388240" cy="261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4356360" y="4351680"/>
                <a:ext cx="1456200" cy="134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Picture 4" descr="C:\Users\cvb\Desktop\уход из дома\214_operatsiya_podrostok.jpeg"/>
              <p:cNvPicPr/>
              <p:nvPr/>
            </p:nvPicPr>
            <p:blipFill>
              <a:blip r:embed="rId4"/>
              <a:stretch/>
            </p:blipFill>
            <p:spPr>
              <a:xfrm>
                <a:off x="2721240" y="5223600"/>
                <a:ext cx="1500840" cy="132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Picture 7" descr="Алена Викторовна Бугачевская - SAY.TV"/>
              <p:cNvPicPr/>
              <p:nvPr/>
            </p:nvPicPr>
            <p:blipFill>
              <a:blip r:embed="rId5"/>
              <a:stretch/>
            </p:blipFill>
            <p:spPr>
              <a:xfrm>
                <a:off x="2542680" y="3686760"/>
                <a:ext cx="1813320" cy="153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Picture 2" descr="C:\Users\cvb\Desktop\уход из дома\Ребенок.jpg"/>
              <p:cNvPicPr/>
              <p:nvPr/>
            </p:nvPicPr>
            <p:blipFill>
              <a:blip r:embed="rId6"/>
              <a:stretch/>
            </p:blipFill>
            <p:spPr>
              <a:xfrm>
                <a:off x="790560" y="4241880"/>
                <a:ext cx="1645920" cy="145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Picture 2" descr="C:\Users\cvb\Desktop\уход из дома\shkolnitsa-sbezhala.jpg"/>
              <p:cNvPicPr/>
              <p:nvPr/>
            </p:nvPicPr>
            <p:blipFill>
              <a:blip r:embed="rId7"/>
              <a:stretch/>
            </p:blipFill>
            <p:spPr>
              <a:xfrm>
                <a:off x="2765880" y="1863360"/>
                <a:ext cx="1299960" cy="1920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7" name="Прямоугольник 11"/>
            <p:cNvSpPr/>
            <p:nvPr/>
          </p:nvSpPr>
          <p:spPr>
            <a:xfrm>
              <a:off x="95400" y="476280"/>
              <a:ext cx="69609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Прямоугольник 1"/>
          <p:cNvSpPr/>
          <p:nvPr/>
        </p:nvSpPr>
        <p:spPr>
          <a:xfrm>
            <a:off x="179280" y="115920"/>
            <a:ext cx="662472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Лучший подарок, который можно сделать своему реденку, это счастливые и прочные отношения между родителями»  Джон Готт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сли Вы хотите вырастить хороших детей, тратьте на них в два раза меньше денег и в два раза больше времен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тер Селсд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C:\Users\cvb\Desktop\333\88\reading.jpg"/>
          <p:cNvPicPr/>
          <p:nvPr/>
        </p:nvPicPr>
        <p:blipFill>
          <a:blip r:embed="rId1"/>
          <a:stretch/>
        </p:blipFill>
        <p:spPr>
          <a:xfrm>
            <a:off x="900000" y="4076640"/>
            <a:ext cx="3032280" cy="1822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C:\Users\cvb\Desktop\333\88\hello_html_m2658f645.jpg"/>
          <p:cNvPicPr/>
          <p:nvPr/>
        </p:nvPicPr>
        <p:blipFill>
          <a:blip r:embed="rId2"/>
          <a:stretch/>
        </p:blipFill>
        <p:spPr>
          <a:xfrm>
            <a:off x="6156360" y="3573360"/>
            <a:ext cx="2279520" cy="291636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6"/>
          <p:cNvSpPr/>
          <p:nvPr/>
        </p:nvSpPr>
        <p:spPr>
          <a:xfrm>
            <a:off x="250920" y="58680"/>
            <a:ext cx="828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егодня многие семьи переживают тяжелый кризис. Утрачено значительное число семейно-нравственных традиций, изменилось отношение родителей к детям. В новых кризисных условиях семья не готова взять на себя ответственность за воспитание детей, так как изменившиеся экономические условия заставляют родителей большей частью искать источники существования; а не заниматься вопросами воспитания детей в семье. В этой ситуации неустойчивые семьи стали более нестабильными и деградируют, фактически бросая своих детей на произвол судьб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благополучие семьи обычно отражается на всех сферах жизни ребенка: школьная успеваемость снижается, появляется отчуждение к школе, уличная компания становится заменой авторитета родителей, в ней ребенок старается получить призн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3"/>
          <p:cNvSpPr/>
          <p:nvPr/>
        </p:nvSpPr>
        <p:spPr>
          <a:xfrm>
            <a:off x="179280" y="-171360"/>
            <a:ext cx="84996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читаю, что социальная профилактика несовершеннолетних (5-11 классов), формирование здорового образа жизни, законопослушного поведения, предотвращения правонарушений среди обучающихся в школе занимает ведущее направление в деятельности всего штаба воспитательной работы  (ШВР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хема взаимодействия следующа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Овал 5"/>
          <p:cNvGrpSpPr/>
          <p:nvPr/>
        </p:nvGrpSpPr>
        <p:grpSpPr>
          <a:xfrm>
            <a:off x="2693880" y="3565440"/>
            <a:ext cx="2828880" cy="2036880"/>
            <a:chOff x="2693880" y="3565440"/>
            <a:chExt cx="2828880" cy="2036880"/>
          </a:xfrm>
        </p:grpSpPr>
        <p:pic>
          <p:nvPicPr>
            <p:cNvPr id="154" name="Овал 5" descr=""/>
            <p:cNvPicPr/>
            <p:nvPr/>
          </p:nvPicPr>
          <p:blipFill>
            <a:blip r:embed="rId1"/>
            <a:stretch/>
          </p:blipFill>
          <p:spPr>
            <a:xfrm>
              <a:off x="2693880" y="3565440"/>
              <a:ext cx="2828880" cy="20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3111480" y="3868560"/>
              <a:ext cx="198612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ОБУЧАЮЩИЕ  ГРУППА РИСКА: (опекаемые,  все виды учета и результаты жизнестойкости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Овал 10"/>
          <p:cNvSpPr/>
          <p:nvPr/>
        </p:nvSpPr>
        <p:spPr>
          <a:xfrm>
            <a:off x="2700360" y="2349360"/>
            <a:ext cx="2519280" cy="1366920"/>
          </a:xfrm>
          <a:prstGeom prst="ellipse">
            <a:avLst/>
          </a:prstGeom>
          <a:gradFill rotWithShape="0">
            <a:gsLst>
              <a:gs pos="0">
                <a:srgbClr val="bef397"/>
              </a:gs>
              <a:gs pos="100000">
                <a:srgbClr val="eafae0"/>
              </a:gs>
            </a:gsLst>
            <a:lin ang="5400000"/>
          </a:gra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ассные руководители (Листы наблюдени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11"/>
          <p:cNvSpPr/>
          <p:nvPr/>
        </p:nvSpPr>
        <p:spPr>
          <a:xfrm>
            <a:off x="2700360" y="5489640"/>
            <a:ext cx="2519280" cy="1368360"/>
          </a:xfrm>
          <a:prstGeom prst="ellipse">
            <a:avLst/>
          </a:prstGeom>
          <a:gradFill rotWithShape="0">
            <a:gsLst>
              <a:gs pos="0">
                <a:srgbClr val="ffde80"/>
              </a:gs>
              <a:gs pos="100000">
                <a:srgbClr val="fff3da"/>
              </a:gs>
            </a:gsLst>
            <a:lin ang="16200000"/>
          </a:gra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тели  (запрос по ситуация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Овал 12"/>
          <p:cNvGrpSpPr/>
          <p:nvPr/>
        </p:nvGrpSpPr>
        <p:grpSpPr>
          <a:xfrm>
            <a:off x="5072040" y="3925800"/>
            <a:ext cx="2535120" cy="1530360"/>
            <a:chOff x="5072040" y="3925800"/>
            <a:chExt cx="2535120" cy="1530360"/>
          </a:xfrm>
        </p:grpSpPr>
        <p:pic>
          <p:nvPicPr>
            <p:cNvPr id="159" name="Овал 12" descr=""/>
            <p:cNvPicPr/>
            <p:nvPr/>
          </p:nvPicPr>
          <p:blipFill>
            <a:blip r:embed="rId2"/>
            <a:stretch/>
          </p:blipFill>
          <p:spPr>
            <a:xfrm>
              <a:off x="5072040" y="3925800"/>
              <a:ext cx="25351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5445000" y="4154400"/>
              <a:ext cx="1782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Школьный психолог (результаты тестирован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Овал 16"/>
          <p:cNvSpPr/>
          <p:nvPr/>
        </p:nvSpPr>
        <p:spPr>
          <a:xfrm>
            <a:off x="539640" y="3933720"/>
            <a:ext cx="2376720" cy="1656000"/>
          </a:xfrm>
          <a:prstGeom prst="ellipse">
            <a:avLst/>
          </a:prstGeom>
          <a:gradFill rotWithShape="0">
            <a:gsLst>
              <a:gs pos="0">
                <a:srgbClr val="ada69f"/>
              </a:gs>
              <a:gs pos="100000">
                <a:srgbClr val="e6e5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циальный педагог(КДН, ОПД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Двойная стрелка вверх/вниз 14"/>
          <p:cNvSpPr/>
          <p:nvPr/>
        </p:nvSpPr>
        <p:spPr>
          <a:xfrm rot="18924600">
            <a:off x="2205000" y="5051520"/>
            <a:ext cx="378000" cy="1154160"/>
          </a:xfrm>
          <a:prstGeom prst="upDownArrow">
            <a:avLst>
              <a:gd name="adj1" fmla="val 50000"/>
              <a:gd name="adj2" fmla="val 49984"/>
            </a:avLst>
          </a:prstGeom>
          <a:blipFill rotWithShape="0">
            <a:blip r:embed="rId3"/>
            <a:srcRect/>
            <a:tile tx="0" ty="0" sx="100000" sy="100000" algn="ctr"/>
          </a:blip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Двойная стрелка вверх/вниз 13"/>
          <p:cNvSpPr/>
          <p:nvPr/>
        </p:nvSpPr>
        <p:spPr>
          <a:xfrm rot="2920800">
            <a:off x="5109480" y="4968000"/>
            <a:ext cx="444600" cy="1249200"/>
          </a:xfrm>
          <a:prstGeom prst="upDownArrow">
            <a:avLst>
              <a:gd name="adj1" fmla="val 50000"/>
              <a:gd name="adj2" fmla="val 49976"/>
            </a:avLst>
          </a:prstGeom>
          <a:blipFill rotWithShape="0">
            <a:blip r:embed="rId4"/>
            <a:srcRect/>
            <a:tile tx="0" ty="0" sx="100000" sy="100000" algn="ctr"/>
          </a:blip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Двойная стрелка вверх/вниз 8"/>
          <p:cNvSpPr/>
          <p:nvPr/>
        </p:nvSpPr>
        <p:spPr>
          <a:xfrm rot="18924600">
            <a:off x="5243040" y="3022200"/>
            <a:ext cx="382680" cy="1251000"/>
          </a:xfrm>
          <a:prstGeom prst="upDownArrow">
            <a:avLst>
              <a:gd name="adj1" fmla="val 50000"/>
              <a:gd name="adj2" fmla="val 49989"/>
            </a:avLst>
          </a:prstGeom>
          <a:blipFill rotWithShape="0">
            <a:blip r:embed="rId5"/>
            <a:srcRect/>
            <a:tile tx="0" ty="0" sx="100000" sy="100000" algn="ctr"/>
          </a:blip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Двойная стрелка вверх/вниз 15"/>
          <p:cNvSpPr/>
          <p:nvPr/>
        </p:nvSpPr>
        <p:spPr>
          <a:xfrm rot="2668800">
            <a:off x="2315880" y="3133800"/>
            <a:ext cx="442800" cy="1139760"/>
          </a:xfrm>
          <a:prstGeom prst="upDownArrow">
            <a:avLst>
              <a:gd name="adj1" fmla="val 50000"/>
              <a:gd name="adj2" fmla="val 50014"/>
            </a:avLst>
          </a:prstGeom>
          <a:blipFill rotWithShape="0">
            <a:blip r:embed="rId6"/>
            <a:srcRect/>
            <a:tile tx="0" ty="0" sx="100000" sy="100000" algn="ctr"/>
          </a:blip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2"/>
          <p:cNvSpPr/>
          <p:nvPr/>
        </p:nvSpPr>
        <p:spPr>
          <a:xfrm>
            <a:off x="250920" y="2060640"/>
            <a:ext cx="5875200" cy="34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убежать из дома – это  возможно знак протеста, который чаще проявляется в среднем школьном возрасте (10 – 13 лет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т период психологический климат семьи имеет для ребенка очень большое зна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омфорт в отношениях с родителями воспринимается очень остро. Ребенок отныне выступает перед лицом общества 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179280" y="404640"/>
            <a:ext cx="66470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убегают из дома из-за невыносимой домашней обстановки: постоянного физического, сексуального или эмоционального насилия, совершаемого над ни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6789600" y="703440"/>
            <a:ext cx="1884600" cy="2509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6499080" y="3500280"/>
            <a:ext cx="217512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1"/>
          <p:cNvSpPr/>
          <p:nvPr/>
        </p:nvSpPr>
        <p:spPr>
          <a:xfrm>
            <a:off x="684360" y="1159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новная причина правонарушений и ухода из д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144360" y="1425600"/>
            <a:ext cx="58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сего поводом уйти из дома становится игнорирование потребностей ребёнка, в основе которого лежит отсутствие взаимопонимания с р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ном, уходят подростки 10-17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166680" y="3733920"/>
            <a:ext cx="536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о подростковый возраст считается трудным периодом, когда подросток, несмотря на внешнюю браваду, грубость и агрессивность, на самом деле крайне раним и беззащит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C:\Users\cvb\Desktop\333\подростк рисунки\boy-backpack-vector-drawing-walking-43216738.jpg"/>
          <p:cNvPicPr/>
          <p:nvPr/>
        </p:nvPicPr>
        <p:blipFill>
          <a:blip r:embed="rId1"/>
          <a:srcRect l="0" t="0" r="59" b="0"/>
          <a:stretch/>
        </p:blipFill>
        <p:spPr>
          <a:xfrm>
            <a:off x="5940360" y="1341360"/>
            <a:ext cx="2303640" cy="4505400"/>
          </a:xfrm>
          <a:prstGeom prst="rect">
            <a:avLst/>
          </a:prstGeom>
          <a:ln w="0">
            <a:noFill/>
          </a:ln>
        </p:spPr>
      </p:pic>
      <p:sp>
        <p:nvSpPr>
          <p:cNvPr id="174" name="Выгнутая влево стрелка 5"/>
          <p:cNvSpPr/>
          <p:nvPr/>
        </p:nvSpPr>
        <p:spPr>
          <a:xfrm flipH="1">
            <a:off x="7092360" y="836640"/>
            <a:ext cx="1655640" cy="4790880"/>
          </a:xfrm>
          <a:custGeom>
            <a:avLst/>
            <a:gdLst>
              <a:gd name="textAreaLeft" fmla="*/ 221760 w 1655640"/>
              <a:gd name="textAreaRight" fmla="*/ 1433880 w 1655640"/>
              <a:gd name="textAreaTop" fmla="*/ 1042560 h 4790880"/>
              <a:gd name="textAreaBottom" fmla="*/ 3541680 h 479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01" stAng="-5400000" swAng="-5400000"/>
                <a:lnTo>
                  <a:pt x="0" y="11267"/>
                </a:lnTo>
                <a:arcTo wR="21600" hR="9401" stAng="10800000" swAng="-3559220"/>
                <a:lnTo>
                  <a:pt x="16200" y="21301"/>
                </a:lnTo>
                <a:lnTo>
                  <a:pt x="21600" y="19734"/>
                </a:lnTo>
                <a:lnTo>
                  <a:pt x="16200" y="17569"/>
                </a:lnTo>
                <a:lnTo>
                  <a:pt x="16200" y="18502"/>
                </a:lnTo>
                <a:arcTo wR="21600" hR="9401" stAng="7240780" swAng="3410086"/>
                <a:lnTo>
                  <a:pt x="107" y="10334"/>
                </a:lnTo>
                <a:arcTo wR="21600" hR="9401" stAng="-10650865" swAng="5250865"/>
                <a:close/>
              </a:path>
              <a:path fill="darkenLess" w="21600" h="21600">
                <a:moveTo>
                  <a:pt x="21600" y="0"/>
                </a:moveTo>
                <a:arcTo wR="21600" hR="9401" stAng="-5400000" swAng="-5400000"/>
                <a:lnTo>
                  <a:pt x="0" y="9401"/>
                </a:lnTo>
                <a:arcTo wR="21600" hR="9401" stAng="10800000" swAng="-149135"/>
                <a:lnTo>
                  <a:pt x="107" y="10334"/>
                </a:lnTo>
                <a:arcTo wR="21600" hR="9401" stAng="-10650865" swAng="5250865"/>
                <a:close/>
              </a:path>
            </a:pathLst>
          </a:custGeom>
          <a:solidFill>
            <a:srgbClr val="d9d9d9"/>
          </a:soli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2"/>
          <p:cNvSpPr/>
          <p:nvPr/>
        </p:nvSpPr>
        <p:spPr>
          <a:xfrm>
            <a:off x="395280" y="333360"/>
            <a:ext cx="8209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я деятельность по профилактике безнадзорности и правонарушений обучающихся в возрасте (8 - 15 лет) основыв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Выявление асоциальных и неблагополучных детей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помощью листов наблюд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 Выявление и устранение причин социальной дезадаптации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Создание эффективной системы социальной поддержки детей и подростков группы риска, направленной на решение проблем детской и подростковой безнадзорности и преступности совместно с социальным педагог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. Повышение правовой культуры и социально-педагогической компетенции родителей (законных представителей) обучающихся(классные часы, родительские собра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5. Сотрудничество с социальными службами (КДН, ОПДН) заинтересованных в решении проблем безнадзорности и правонарушений в детской сре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250920" y="260280"/>
            <a:ext cx="853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 с учащимися, склонными к правонарушениям, к бродяжничеству, совершившим правонарушения и преступления, особое внимание уделяется таким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5680" algn="just">
              <a:lnSpc>
                <a:spcPct val="100000"/>
              </a:lnSpc>
              <a:buClr>
                <a:srgbClr val="000000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е консультирование детей и родителей (законных представител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5680" algn="just">
              <a:lnSpc>
                <a:spcPct val="100000"/>
              </a:lnSpc>
              <a:buClr>
                <a:srgbClr val="000000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ативные вст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5680" algn="just">
              <a:lnSpc>
                <a:spcPct val="100000"/>
              </a:lnSpc>
              <a:buClr>
                <a:srgbClr val="000000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вещение детей и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5680" algn="just">
              <a:lnSpc>
                <a:spcPct val="100000"/>
              </a:lnSpc>
              <a:buClr>
                <a:srgbClr val="000000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педагогических рекомендаций, обсуждение тем воспитания детей в сообществе электронной сети «ВКонтакте» (закрытые группы класс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C:\Users\cvb\Desktop\333\88\мама-папы-и-сын-семья-супруг-жена-с-ребенком-шуточный-чертеж-148296816.jpg"/>
          <p:cNvPicPr/>
          <p:nvPr/>
        </p:nvPicPr>
        <p:blipFill>
          <a:blip r:embed="rId1"/>
          <a:stretch/>
        </p:blipFill>
        <p:spPr>
          <a:xfrm>
            <a:off x="6443640" y="3933720"/>
            <a:ext cx="196524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6"/>
          <p:cNvSpPr/>
          <p:nvPr/>
        </p:nvSpPr>
        <p:spPr>
          <a:xfrm>
            <a:off x="468360" y="-243000"/>
            <a:ext cx="7291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C:\Users\cvb\Desktop\333\подростк рисунки\20170504-ask-transp.png"/>
          <p:cNvPicPr/>
          <p:nvPr/>
        </p:nvPicPr>
        <p:blipFill>
          <a:blip r:embed="rId1"/>
          <a:stretch/>
        </p:blipFill>
        <p:spPr>
          <a:xfrm>
            <a:off x="5003640" y="3754440"/>
            <a:ext cx="3492720" cy="229068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2"/>
          <p:cNvSpPr/>
          <p:nvPr/>
        </p:nvSpPr>
        <p:spPr>
          <a:xfrm>
            <a:off x="92160" y="0"/>
            <a:ext cx="8567640" cy="63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авила, которые помогают наладить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 поддерживать в семье бесконфликтную дисципл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2000"/>
              </a:lnSpc>
              <a:buClr>
                <a:srgbClr val="000000"/>
              </a:buClr>
              <a:buSzPct val="41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(ограничения, требования, запреты) обязательно должны быть в жизни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buClr>
                <a:srgbClr val="000000"/>
              </a:buClr>
              <a:buSzPct val="41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 (ограничений, требований, запретов) не должно быть слишком много, и они должны быть гиб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buClr>
                <a:srgbClr val="000000"/>
              </a:buClr>
              <a:buSzPct val="41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е требования не должны вступать в явное противоречие с важнейшими потребностями ребёнка (движение, познание, упражн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buClr>
                <a:srgbClr val="000000"/>
              </a:buClr>
              <a:buSzPct val="41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(ограничения, требования, запреты) должны быть согласованы взрослыми между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buClr>
                <a:srgbClr val="000000"/>
              </a:buClr>
              <a:buSzPct val="41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, в котором сообщается требование или запрет, должен быть скорее дружественно-разъяснительным, чем повелите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Ц</dc:creator>
  <dc:description/>
  <dc:language>en-US</dc:language>
  <cp:lastModifiedBy>Пользователь</cp:lastModifiedBy>
  <dcterms:modified xsi:type="dcterms:W3CDTF">2024-02-26T06:30:49Z</dcterms:modified>
  <cp:revision>110</cp:revision>
  <dc:subject/>
  <dc:title>Профилактика безнадзорности детей и подростк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973899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