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4E7-28D5-4730-B376-EB43203B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A17-CAC1-4BFC-AF59-E2759189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C25-4859-4A54-AE92-BDACFE7E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7DD-E4EA-4315-905A-61B82AEC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6B94-D17B-4175-A27A-C1E948E3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E193-C120-4B62-8C38-E58711C6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B4F7-B186-4892-9BBD-AC774DCA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22AF-4A1C-4FB2-928C-E00B4891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E064-A410-402E-8E84-780648EB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63F1-F472-4C92-8B42-678C8EC1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C462-C6A8-4543-8A21-E8156A9A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842-8607-4557-BBB3-167820BB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5C9B-E912-4F31-B07A-F8F4EBA9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D320-7412-4EC1-BBAF-36DC6908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E512-26F7-470D-9ACD-9A0183B8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A742-7A1A-4FD5-ADE8-F4BC9A11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7F6D-45BC-48DF-8FB0-6F16F41D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BBD12-AD20-48AF-82A1-AC384253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A3DFF-4002-4E83-9070-3DEE5CED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5E18A-FCC2-4DF5-B22E-771F8952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CD5E6-2BAF-462D-BCD9-54BFE23D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93E05-A7CE-4715-8EAF-4AACB44F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BB3-C9BF-4051-8A5A-CACD31CD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9B8AA-4403-4CFC-A0A4-C0528D9B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91278-CA7A-48A4-8660-1F70E5F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84E35-6881-45FA-B525-673AA3B3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C7669-C6C0-4DF2-B542-7C5EC2F0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77341-AD14-40FA-B4CB-AA3F5699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73C96-F36A-49CD-9453-4EFC1A0A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E1DCC-B0D5-4DCF-8870-BD3E2644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D1A-0290-464A-A7B0-90EC3460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42F-B056-47F8-9BC8-789B583C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195-404E-4721-9282-B2054A15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063-17FE-49F4-9521-92486269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903-19C6-45B1-9CAA-DAA952A5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168-EFB6-4410-862A-DFB6A250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7367-3818-41D1-AF32-054376DC7AE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89B9-254E-41B0-8AD9-12E102C3367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04AB-EEAF-4650-98D6-57B616D0D6F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3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Прямоугольник 8"/>
          <p:cNvGrpSpPr/>
          <p:nvPr/>
        </p:nvGrpSpPr>
        <p:grpSpPr>
          <a:xfrm>
            <a:off x="324000" y="620640"/>
            <a:ext cx="7921080" cy="5829840"/>
            <a:chOff x="324000" y="620640"/>
            <a:chExt cx="7921080" cy="5829840"/>
          </a:xfrm>
        </p:grpSpPr>
        <p:pic>
          <p:nvPicPr>
            <p:cNvPr id="16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24000" y="620640"/>
              <a:ext cx="7921080" cy="58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52160" y="985680"/>
              <a:ext cx="7664400" cy="47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341360"/>
            <a:ext cx="705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1052640"/>
            <a:ext cx="7056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7b"/>
                </a:solidFill>
                <a:latin typeface="Times New Roman"/>
              </a:rPr>
              <a:t>Муниципальное автономное дошкольное образовательное учреждение  д/с №11 «Лазурный» муниципального образования город-курорт Ана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3764"/>
                </a:solidFill>
                <a:latin typeface="Times New Roman"/>
              </a:rPr>
              <a:t>Сотрудничество учителя-логопеда и воспитателя при постановке свистящих и шипящих звуков у детей с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7077b"/>
                </a:solidFill>
                <a:latin typeface="Times New Roman"/>
              </a:rPr>
              <a:t>Учитель-логопед </a:t>
            </a:r>
            <a:r>
              <a:rPr b="1" i="1" lang="ru-RU" sz="2000" spc="-1" strike="noStrike">
                <a:solidFill>
                  <a:srgbClr val="07077b"/>
                </a:solidFill>
                <a:latin typeface="Times New Roman"/>
              </a:rPr>
              <a:t>высшей квалификационной категории МАДОУ№ 11 «Лазурны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77b"/>
                </a:solidFill>
                <a:latin typeface="Times New Roman"/>
              </a:rPr>
              <a:t>Чипизубова Еле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0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Прямоугольник 8"/>
          <p:cNvGrpSpPr/>
          <p:nvPr/>
        </p:nvGrpSpPr>
        <p:grpSpPr>
          <a:xfrm>
            <a:off x="468360" y="476280"/>
            <a:ext cx="8064000" cy="6118560"/>
            <a:chOff x="468360" y="476280"/>
            <a:chExt cx="8064000" cy="6118560"/>
          </a:xfrm>
        </p:grpSpPr>
        <p:pic>
          <p:nvPicPr>
            <p:cNvPr id="24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8064000" cy="611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98680" y="859320"/>
              <a:ext cx="7803000" cy="49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73764"/>
                  </a:solidFill>
                  <a:latin typeface="Times New Roman"/>
                </a:rPr>
                <a:t>Планирова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73764"/>
                  </a:solidFill>
                  <a:latin typeface="Times New Roman"/>
                </a:rPr>
                <a:t>коррекционно-образовательной  рабо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В плане воспитатели выделяют графу «Коррекционная работ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7077b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Артикуляционная гимн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2. Дыхательная гимн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3. Пальчиковая гимн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4.Формирование фонетического восприя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5. Формирование лексико-грамматических предста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6. Развитие ВПФ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7. Связная реч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8. Формирование навыков звукового анали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9. Контроль за произношение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187280" y="1413000"/>
            <a:ext cx="67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8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Прямоугольник 8"/>
          <p:cNvGrpSpPr/>
          <p:nvPr/>
        </p:nvGrpSpPr>
        <p:grpSpPr>
          <a:xfrm>
            <a:off x="250920" y="476280"/>
            <a:ext cx="7921080" cy="6189840"/>
            <a:chOff x="250920" y="476280"/>
            <a:chExt cx="7921080" cy="6189840"/>
          </a:xfrm>
        </p:grpSpPr>
        <p:pic>
          <p:nvPicPr>
            <p:cNvPr id="2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476280"/>
              <a:ext cx="7921080" cy="618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79080" y="863640"/>
              <a:ext cx="7664400" cy="50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c73764"/>
                  </a:solidFill>
                  <a:latin typeface="Times New Roman"/>
                </a:rPr>
                <a:t>Особенности сотрудничества педагогов           в ДОУ «Лазурный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.</a:t>
              </a:r>
              <a:r>
                <a:rPr b="1" lang="ru-RU" sz="28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Ознакомление воспитателей с результатами обследования детей в начале учебного г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2. Составление годового плана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3.  Создание предметно-развивающей и речевой сре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4. Изготовление, подбор контуров, трафаретов, дидактических и настольно-печатных игр на заданный звук и по всем темам; оформление книжного и родительского уголк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5. Ведение журнала взаимодействия воспитателей и учителя-логопед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6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Прямоугольник 8"/>
          <p:cNvGrpSpPr/>
          <p:nvPr/>
        </p:nvGrpSpPr>
        <p:grpSpPr>
          <a:xfrm>
            <a:off x="468360" y="907920"/>
            <a:ext cx="7919640" cy="5758200"/>
            <a:chOff x="468360" y="907920"/>
            <a:chExt cx="7919640" cy="5758200"/>
          </a:xfrm>
        </p:grpSpPr>
        <p:pic>
          <p:nvPicPr>
            <p:cNvPr id="25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68360" y="907920"/>
              <a:ext cx="7919640" cy="57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96520" y="1268280"/>
              <a:ext cx="7663320" cy="46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8. Использование </a:t>
              </a: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логопедических пятиминуток </a:t>
              </a: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в повседневной работе (использование различных видов гимнастик – дыхательной, зрительной, пальчиковой, артикуляционной)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9. Проектный мето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0. Организация и проведение конкурса чтецов. Заучивание стихов по каждой лексической тем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1. Драматизация стихов, сказок, рассказ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2. Составление предложений, рассказов по схемам и мнемотаблица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3. Выполнение упражнений на межполушарное взаимодействи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4. Мультипликационная студ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5. Взаимодействие с родителям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4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Прямоугольник 8"/>
          <p:cNvGrpSpPr/>
          <p:nvPr/>
        </p:nvGrpSpPr>
        <p:grpSpPr>
          <a:xfrm>
            <a:off x="250920" y="907920"/>
            <a:ext cx="7921080" cy="5758200"/>
            <a:chOff x="250920" y="907920"/>
            <a:chExt cx="7921080" cy="5758200"/>
          </a:xfrm>
        </p:grpSpPr>
        <p:pic>
          <p:nvPicPr>
            <p:cNvPr id="26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907920"/>
              <a:ext cx="7921080" cy="57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79080" y="1268280"/>
              <a:ext cx="7664400" cy="46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73764"/>
                  </a:solidFill>
                  <a:latin typeface="Times New Roman"/>
                </a:rPr>
                <a:t>Таким образом, и логопед, и воспитатель должны ясно представлять характер и особенности своей работы, чтобы, помогая друг другу, </a:t>
              </a: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достичь единой цели</a:t>
              </a:r>
              <a:r>
                <a:rPr b="0" lang="ru-RU" sz="3200" spc="-1" strike="noStrike">
                  <a:solidFill>
                    <a:srgbClr val="c73764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7077b"/>
                  </a:solidFill>
                  <a:latin typeface="Times New Roman"/>
                </a:rPr>
                <a:t>–</a:t>
              </a:r>
              <a:r>
                <a:rPr b="0" lang="ru-RU" sz="3200" spc="-1" strike="noStrike">
                  <a:solidFill>
                    <a:srgbClr val="c73764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7077b"/>
                  </a:solidFill>
                  <a:latin typeface="Times New Roman"/>
                </a:rPr>
                <a:t>воспитать у ребёнка правильную речь и подготовить его для успешного обучения в школе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11280" y="148428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2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Прямоугольник 8"/>
          <p:cNvGrpSpPr/>
          <p:nvPr/>
        </p:nvGrpSpPr>
        <p:grpSpPr>
          <a:xfrm>
            <a:off x="250920" y="692280"/>
            <a:ext cx="8208360" cy="6162840"/>
            <a:chOff x="250920" y="692280"/>
            <a:chExt cx="8208360" cy="6162840"/>
          </a:xfrm>
        </p:grpSpPr>
        <p:pic>
          <p:nvPicPr>
            <p:cNvPr id="27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692280"/>
              <a:ext cx="820836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83760" y="1078200"/>
              <a:ext cx="794268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119700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ЖЕЛАЮ  ПРИЯТНОГО  ПРОСМОТРА И  УСПЕХОВ В РЕАЛИЗАЦИИ ПРОФЕССИОНАЛЬНЫХ </a:t>
            </a:r>
            <a:r>
              <a:rPr b="1" i="1" lang="en-US" sz="24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НАВЫКОВ</a:t>
            </a:r>
            <a:r>
              <a:rPr b="1" lang="ru-RU" sz="24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В УСЛОВИЯХ </a:t>
            </a:r>
            <a:r>
              <a:rPr b="1" i="1" lang="en-US" sz="24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ДЕЯТЕЛЬНОСТИ   ДОУ!!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395280" y="3068640"/>
            <a:ext cx="2952720" cy="27367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276720" y="270828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МАДОУ детский сад №11 «Лазурный» город-курорт Анапа, ул.Лазурная,12 </a:t>
            </a:r>
            <a:br>
              <a:rPr sz="2400"/>
            </a:br>
            <a:r>
              <a:rPr b="1" lang="en-US" sz="2400" spc="-1" strike="noStrike">
                <a:solidFill>
                  <a:srgbClr val="07077b"/>
                </a:solidFill>
                <a:latin typeface="Times New Roman"/>
              </a:rPr>
              <a:t>e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7077b"/>
                </a:solidFill>
                <a:latin typeface="Times New Roman"/>
              </a:rPr>
              <a:t>mail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7077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7077b"/>
                </a:solidFill>
                <a:latin typeface="Times New Roman"/>
              </a:rPr>
              <a:t>lazyrniyds</a:t>
            </a:r>
            <a:r>
              <a:rPr b="0" lang="ru-RU" sz="2400" spc="-1" strike="noStrike">
                <a:solidFill>
                  <a:srgbClr val="07077b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7077b"/>
                </a:solidFill>
                <a:latin typeface="Times New Roman"/>
              </a:rPr>
              <a:t>@mail.ru</a:t>
            </a:r>
            <a:br>
              <a:rPr sz="2400"/>
            </a:b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Заведующий: </a:t>
            </a:r>
            <a:r>
              <a:rPr b="1" i="1" lang="en-US" sz="2400" spc="-1" strike="noStrike">
                <a:solidFill>
                  <a:srgbClr val="07077b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07077b"/>
                </a:solidFill>
                <a:latin typeface="Times New Roman"/>
              </a:rPr>
              <a:t>улименко Светлана  Александров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3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Прямоугольник 8"/>
          <p:cNvGrpSpPr/>
          <p:nvPr/>
        </p:nvGrpSpPr>
        <p:grpSpPr>
          <a:xfrm>
            <a:off x="395280" y="907920"/>
            <a:ext cx="8567280" cy="5614200"/>
            <a:chOff x="395280" y="907920"/>
            <a:chExt cx="8567280" cy="5614200"/>
          </a:xfrm>
        </p:grpSpPr>
        <p:pic>
          <p:nvPicPr>
            <p:cNvPr id="17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95280" y="907920"/>
              <a:ext cx="8567280" cy="56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33880" y="1259280"/>
              <a:ext cx="8289720" cy="453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73764"/>
                  </a:solidFill>
                  <a:latin typeface="Times New Roman"/>
                </a:rPr>
                <a:t>Успех коррекционной логопедической работы в условиях группы для детей с речевой патологией во многом зависит от слаженности в работе педагогов, а особенно от взаимосвязи, преемственности в работе воспитателя и учителя-логопеда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исправляет нарушение звукопроизношения свистящих зв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активно участвует в коррекционной работ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-181080" y="126828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0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50616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Прямоугольник 8"/>
          <p:cNvGrpSpPr/>
          <p:nvPr/>
        </p:nvGrpSpPr>
        <p:grpSpPr>
          <a:xfrm>
            <a:off x="0" y="907920"/>
            <a:ext cx="7884720" cy="5614200"/>
            <a:chOff x="0" y="907920"/>
            <a:chExt cx="7884720" cy="561420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0" y="907920"/>
              <a:ext cx="7884720" cy="56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27440" y="1259280"/>
              <a:ext cx="7629480" cy="453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8360" y="1628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1477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484280"/>
            <a:ext cx="705672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3764"/>
                </a:solidFill>
                <a:latin typeface="Arial"/>
              </a:rPr>
              <a:t>Сотрудничество учителя-логопеда и воспитателя  направлено на решение основных з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Arial"/>
              </a:rPr>
              <a:t>*выявление детей, имеющих речевые нарушения свистящих и шипящих 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Arial"/>
              </a:rPr>
              <a:t>*коррекция речевых нару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Arial"/>
              </a:rPr>
              <a:t>*профилактика возникновения речевых нару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0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Прямоугольник 8"/>
          <p:cNvGrpSpPr/>
          <p:nvPr/>
        </p:nvGrpSpPr>
        <p:grpSpPr>
          <a:xfrm>
            <a:off x="324000" y="907920"/>
            <a:ext cx="7919640" cy="5687280"/>
            <a:chOff x="324000" y="907920"/>
            <a:chExt cx="7919640" cy="5687280"/>
          </a:xfrm>
        </p:grpSpPr>
        <p:pic>
          <p:nvPicPr>
            <p:cNvPr id="1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7919640" cy="56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52160" y="1263960"/>
              <a:ext cx="7663320" cy="45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0" y="1197000"/>
            <a:ext cx="73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557360"/>
            <a:ext cx="755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3764"/>
                </a:solidFill>
                <a:latin typeface="Times New Roman"/>
              </a:rPr>
              <a:t>Планирование скоординированной работы учителя-логопеда и воспитателя в группе компенсирующей направленности для детей с ТНР осуществляется в следующих направления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77b"/>
                </a:solidFill>
                <a:latin typeface="Times New Roman"/>
              </a:rPr>
              <a:t>1. коррекционно-развиваю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77b"/>
                </a:solidFill>
                <a:latin typeface="Times New Roman"/>
              </a:rPr>
              <a:t>2. общеобразов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77b"/>
                </a:solidFill>
                <a:latin typeface="Times New Roman"/>
              </a:rPr>
              <a:t>3. воспит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9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50616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Прямоугольник 8"/>
          <p:cNvGrpSpPr/>
          <p:nvPr/>
        </p:nvGrpSpPr>
        <p:grpSpPr>
          <a:xfrm>
            <a:off x="-181080" y="836640"/>
            <a:ext cx="8353080" cy="5829480"/>
            <a:chOff x="-181080" y="836640"/>
            <a:chExt cx="8353080" cy="5829480"/>
          </a:xfrm>
        </p:grpSpPr>
        <p:pic>
          <p:nvPicPr>
            <p:cNvPr id="20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181080" y="836640"/>
              <a:ext cx="835308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-45720" y="1201680"/>
              <a:ext cx="8082360" cy="47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Работа при коррекции звукопроизнош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: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исправляет нарушение речи: готовит артикуляционный уклад дефектных звуков, ставит их, автоматизирует и дифференциру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: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под руководством логопеда активно участвует в коррекционной работе: автоматизирует поставленные звуки в словах, словосочетаниях, в связной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68360" y="1413000"/>
            <a:ext cx="734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7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Прямоугольник 8"/>
          <p:cNvGrpSpPr/>
          <p:nvPr/>
        </p:nvGrpSpPr>
        <p:grpSpPr>
          <a:xfrm>
            <a:off x="324000" y="692280"/>
            <a:ext cx="8208360" cy="6162840"/>
            <a:chOff x="324000" y="692280"/>
            <a:chExt cx="8208360" cy="6162840"/>
          </a:xfrm>
        </p:grpSpPr>
        <p:pic>
          <p:nvPicPr>
            <p:cNvPr id="21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24000" y="692280"/>
              <a:ext cx="820836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6840" y="1078200"/>
              <a:ext cx="794268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c73764"/>
                  </a:solidFill>
                  <a:latin typeface="Times New Roman"/>
                </a:rPr>
                <a:t>I </a:t>
              </a: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Подготовительный этап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c73764"/>
                  </a:solidFill>
                  <a:latin typeface="Arial"/>
                </a:rPr>
                <a:t>  </a:t>
              </a:r>
              <a:r>
                <a:rPr b="1" i="1" lang="ru-RU" sz="1800" spc="-1" strike="noStrike">
                  <a:solidFill>
                    <a:srgbClr val="c73764"/>
                  </a:solidFill>
                  <a:latin typeface="Arial"/>
                </a:rPr>
                <a:t>Цель: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1" i="1" lang="ru-RU" sz="1800" spc="-1" strike="noStrike">
                  <a:solidFill>
                    <a:srgbClr val="07077b"/>
                  </a:solidFill>
                  <a:latin typeface="Arial"/>
                </a:rPr>
                <a:t>подготовка речедвигательного и речеслухового     анализатора к правильному произношению и воспроизведению звука.</a:t>
              </a:r>
              <a:r>
                <a:rPr b="0" i="1" lang="ru-RU" sz="1800" spc="-1" strike="noStrike">
                  <a:solidFill>
                    <a:srgbClr val="07077b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 </a:t>
              </a: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, в зависимости от характера нарушения звука у ребёнка, вырабатывает и тренирует движения органов артикуляционного аппара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по заданию логопеда в игровой форме закрепляет у детей движения и положения органов артикуляционного аппара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84360" y="105264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5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186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Прямоугольник 8"/>
          <p:cNvGrpSpPr/>
          <p:nvPr/>
        </p:nvGrpSpPr>
        <p:grpSpPr>
          <a:xfrm>
            <a:off x="250920" y="404640"/>
            <a:ext cx="8137080" cy="6450120"/>
            <a:chOff x="250920" y="404640"/>
            <a:chExt cx="8137080" cy="6450120"/>
          </a:xfrm>
        </p:grpSpPr>
        <p:pic>
          <p:nvPicPr>
            <p:cNvPr id="21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8137080" cy="645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82320" y="808560"/>
              <a:ext cx="7873560" cy="52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0" y="2852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907920"/>
            <a:ext cx="7345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3764"/>
                </a:solidFill>
                <a:latin typeface="Times New Roman"/>
              </a:rPr>
              <a:t>II </a:t>
            </a:r>
            <a:r>
              <a:rPr b="1" lang="ru-RU" sz="3200" spc="-1" strike="noStrike">
                <a:solidFill>
                  <a:srgbClr val="c73764"/>
                </a:solidFill>
                <a:latin typeface="Times New Roman"/>
              </a:rPr>
              <a:t>Этап появления зв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Цель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000" spc="-1" strike="noStrike">
                <a:solidFill>
                  <a:srgbClr val="07077b"/>
                </a:solidFill>
                <a:latin typeface="Times New Roman"/>
              </a:rPr>
              <a:t>добиться правильного звучания изолированного зву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Times New Roman"/>
              </a:rPr>
              <a:t>Учитель-логопед 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ставит звуки, предварительно отрабатывая артикуляционный уклад нужного звука, при этом использует специальные приёмы и отработанные на предыдущем этапе движения органов артикуляцион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Times New Roman"/>
              </a:rPr>
              <a:t>Воспитатель 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закрепляет произнесение поставленного логопедом звука, фиксируя внимание ребёнка на его звучании и артикуляции, используя картинки-символы и звукоподраж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4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8"/>
          <p:cNvGrpSpPr/>
          <p:nvPr/>
        </p:nvGrpSpPr>
        <p:grpSpPr>
          <a:xfrm>
            <a:off x="-468360" y="0"/>
            <a:ext cx="8711640" cy="6854760"/>
            <a:chOff x="-468360" y="0"/>
            <a:chExt cx="8711640" cy="6854760"/>
          </a:xfrm>
        </p:grpSpPr>
        <p:pic>
          <p:nvPicPr>
            <p:cNvPr id="22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468360" y="0"/>
              <a:ext cx="871164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-327240" y="429120"/>
              <a:ext cx="8429760" cy="55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73764"/>
                  </a:solidFill>
                  <a:latin typeface="Times New Roman"/>
                </a:rPr>
                <a:t>  </a:t>
              </a:r>
              <a:r>
                <a:rPr b="1" i="1" lang="en-US" sz="3200" spc="-1" strike="noStrike">
                  <a:solidFill>
                    <a:srgbClr val="c73764"/>
                  </a:solidFill>
                  <a:latin typeface="Times New Roman"/>
                </a:rPr>
                <a:t>III  </a:t>
              </a:r>
              <a:r>
                <a:rPr b="1" i="1" lang="ru-RU" sz="3200" spc="-1" strike="noStrike">
                  <a:solidFill>
                    <a:srgbClr val="c73764"/>
                  </a:solidFill>
                  <a:latin typeface="Times New Roman"/>
                </a:rPr>
                <a:t>Этап усвоения звук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73764"/>
                  </a:solidFill>
                  <a:latin typeface="Times New Roman"/>
                </a:rPr>
                <a:t>Цель: </a:t>
              </a: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научить ребенка правильно произносить уже поставленный звук изолированно, затем в слогах, словах, фразах;</a:t>
              </a:r>
              <a:r>
                <a:rPr b="0" lang="ru-RU" sz="20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научить различать смешиваемые звуки и правильно употреблять их в собственной реч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автоматизирует поставленные звуки, первично дифференцирует на слух и в произношении, последовательно вводит его в речь (в слог, слово, предложение, в самостоятельную реч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по заданию логопеда с отдельными детьми закрепляет поставленный логопедом звук, дифференцирует со смешиваемыми фонемами на слух, и в произношении, используя речевой материал, рекомендуемый логопедо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68360" y="1628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2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Прямоугольник 8"/>
          <p:cNvGrpSpPr/>
          <p:nvPr/>
        </p:nvGrpSpPr>
        <p:grpSpPr>
          <a:xfrm>
            <a:off x="-252360" y="692280"/>
            <a:ext cx="8353080" cy="5829480"/>
            <a:chOff x="-252360" y="692280"/>
            <a:chExt cx="8353080" cy="5829480"/>
          </a:xfrm>
        </p:grpSpPr>
        <p:pic>
          <p:nvPicPr>
            <p:cNvPr id="23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252360" y="692280"/>
              <a:ext cx="835308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-117000" y="1057320"/>
              <a:ext cx="8082360" cy="47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Условия, необходимые для формирования у дошкольников правильного звукопроизношения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7077b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Целесообразно использовать все анализаторы. Опора на кинестетические ощущения способствует осознанному звучанию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2. Отработка звуков, смешиваемых в речи детей, осуществляется поэтапно и распределена в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3. Закрепление поставленных свистящих звуков в процессе дифференциации всех близких зв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68360" y="1628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9:47:59Z</dcterms:created>
  <dc:creator>user</dc:creator>
  <dc:description/>
  <dc:language>en-US</dc:language>
  <cp:lastModifiedBy>12</cp:lastModifiedBy>
  <dcterms:modified xsi:type="dcterms:W3CDTF">2023-03-29T09:35:49Z</dcterms:modified>
  <cp:revision>55</cp:revision>
  <dc:subject/>
  <dc:title>ТЕХНОЛОГИЯ  КОРРЕКЦИОННОЙ                РАБОТЫ ПО ФОРМИРОВАНИЮ             ПИСЬМЕННОЙ РЕЧИ У ДЕТЕЙ       ДОШКОЛЬНОГО ВОЗРАСТА С ОНР                Чипизубова  Елена  Александровна           учитель – логопед высшей категории          Муниципального  бюджетного дошкольного                образовательного учреждения   детский сад компенсирующего вида №2«Орлёнок»             муниципального образования                    город-курорт Анапа</dc:title>
</cp:coreProperties>
</file>