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2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B2D1437D-26CF-4304-8548-A2C3E2F9A6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ru-RU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94A23BCD-9D49-4DA2-AC7B-803B2941F66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ED5-E720-477D-B70B-E6489BB1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E7C-8E6E-4F02-B44B-0CC7B679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D03BE-7284-4F6A-996D-DDD774D6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6931B-704C-4593-ADAF-DEA09D38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29EE6-2B7C-40AA-BC68-A366C688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A6ED6-E2E5-4FD5-9EB2-18CC3FA3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E5396-7B46-4927-947A-F07ADEA4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6E6BE-6D5C-4EC5-A676-FF8C179B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C6AA0-7C11-46F5-AAF9-8685897D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ED3FB-4416-4026-9E32-CA85FEC02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17E8E-B3A1-4332-A029-21B9A49E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CCC-196F-4C86-9644-6BEDD0FF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B1E-288D-4A05-ACA5-BFE0F131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68E9-E233-4307-8793-C109DA11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A75A-C82C-4F7A-839F-B0801895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7E50-E7E1-4FDB-88E5-0F91B1BC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0A68-8721-4FDF-99B4-5DF4A4A4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B770-726F-4F16-846A-E6B5A0B2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57F5-44D7-4F7F-9802-B989DDD6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BDBF-DAC4-4BE7-9D21-76B51A4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5C15-5D43-4C55-96D7-DAA4FA38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1826-8924-4D8C-AF44-1A4FEE5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B05A-8A19-409B-A66D-7CE5B603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4B9E-36B8-41CE-85C9-1FB80E63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D61B-91DB-4D2F-9170-60B7F416A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2582-234E-4598-BF12-6A84E112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099B-0649-496A-ACAB-9ADC1302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4FDCF-50F3-4D02-8238-DDC4A613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E7D3-4991-476B-A5DC-E812840B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300C9-8BC9-42A5-8A03-E0A35484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F3A3F-5FE9-40E7-B155-D008755E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36D-4281-4726-BD42-02E83DB0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024CE-046D-4AFE-89BD-908E5828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528E-9A30-4C96-94A5-4CF9C408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AFF1F-C513-4695-8025-AFA19F56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DEFAE-C35F-4EA4-AEA7-BCDEA173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D1858-E58D-47D6-9A9F-81BD973B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87E39-4799-4C63-B474-36034D4C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80F38-DC55-4A58-B85B-0DD341E1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8537-8730-440B-80FC-049A3E07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777BC-B16C-4CFE-A920-C31B3496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72F5E-3C5B-46C3-9F70-DE79AEFD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A02A-A7D4-4AAF-9AAE-8176C864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CB820-1257-478F-BE6F-68894819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18CD-B2F4-419E-A357-CAD2BFD3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48505-4C63-41EB-8D63-28EDEAA3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68CE-9400-4367-A4E5-09409891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CF9C6-E565-435C-B851-26556006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D7475-D49D-4C28-BB32-AFBCAE9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69B4-4DCC-4E4C-9021-C2035E37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D648-A25D-40B1-A745-EAEAB56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374C1-4C09-4677-9461-A04569BD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08E1-BEBD-4719-9B5B-AF09B5C4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020-001E-4BF3-9919-B9982CE8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18E8-66AE-4883-BC62-5220C2FF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050B4-B43F-47B9-BDEA-D142D79D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25B7A-4888-4F6C-8484-143420E0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349DE-852D-44C7-8091-C041D8D6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16635-B3A2-4827-902D-E045076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BF4F0-F10B-4D2C-868E-87D3720B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1CD8-57E7-4242-B67E-69317095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6CD52-C049-4759-84AE-C3F619A3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6193-1C59-402A-8D66-AB1AB9EF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602C3-0C57-4D0C-A9E9-F0476464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FCC-1D97-4918-BC67-C8D589B1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3C68-2BC0-4699-BAED-EF859AEC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859C-9A66-45A1-9770-C59918F1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D076F-EE41-415E-BE49-20B99EB1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8827-7ADD-4353-9A30-5F0B5EB3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92E5-42A4-4CA3-99D9-59130205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FE121-3B51-48C3-A742-9E2F5B6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75426-4EDF-4A99-8FA4-E53C7FCB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B2543-8B0C-4F15-A72F-C78E857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BAAC3-6B18-4016-AE1F-BC2A03E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8F632-3D47-4156-9B56-656344D4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61A-CD03-4661-9F52-E483E1EF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511A-D016-4716-B128-8C37B6CF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A54F0-70B4-499A-A066-374E77CB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FF651-35A2-47B4-99D0-B87FBD64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8FB73-50FB-4DFF-ACD3-75189DD4F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773FD-B2F9-434E-86B0-52E78AE6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94196-FD04-482E-9C38-E2216FA5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86F6F-E979-40E3-8991-795E5F2D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5ECD-7896-45DC-8055-D422CB13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ACA1C-8D6A-4A3B-8BF2-35074E60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3F8B8-49A3-40B8-9B6E-B4A7D9DA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7FA-ECCA-4BBE-84FE-FED5C6B9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C1D0-7C2E-448F-89C0-FE38B79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993E2-7C63-4D04-96DA-C235F26D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F9008-AC3B-4631-94EB-87900D8B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D1DF0-813B-44FB-B7D2-82A10BC0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F92B9-1313-426A-8A9D-4D94FA9F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9BA67-EE3B-4F97-A27E-B6731CDF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8B75A-CA8D-448D-A170-C09F6F13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04261-69F4-444F-BFF3-4CA64D7A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1DC01-8DD3-452F-A30F-88FDEB65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CB580-B2BA-47A8-8891-7B715351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5A29-BD2B-4623-B844-92A11A51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38052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341B-552D-4B0B-8BC0-0896D8FC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0C4F3-B8DF-4408-BCE7-30F4DA7E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9A93-3A00-4A3B-A223-6B3695C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62CE6-1EDB-41F6-B101-0255745E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265560"/>
            <a:ext cx="8686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FEB40-905F-44A5-AC1F-5BEC8C78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29528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265560"/>
            <a:ext cx="4239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F1A4-046B-4FA9-AC0F-B9626557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29528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265560"/>
            <a:ext cx="279684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1B40-742A-4E20-AB4A-69B4B40F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B714F-1DC9-4A59-BE84-369CCBF5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4380D-BBB2-435D-8CA3-E27968FD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51F2C-4F97-448B-921C-20A09098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s://presentation-creation.ru/" TargetMode="Externa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C4B471D9-A054-4ACC-B0CB-A6B78856C9B5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47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450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453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ftr" idx="28"/>
          </p:nvPr>
        </p:nvSpPr>
        <p:spPr>
          <a:xfrm>
            <a:off x="1703520" y="5297040"/>
            <a:ext cx="573696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Шаблоны презентаций с сайта </a:t>
            </a:r>
            <a:r>
              <a:rPr b="0" lang="en-US" sz="1200" spc="-1" strike="noStrike" u="sng">
                <a:solidFill>
                  <a:srgbClr val="168bba"/>
                </a:solidFill>
                <a:uFillTx/>
                <a:latin typeface="Times New Roman"/>
                <a:hlinkClick r:id="rId5"/>
              </a:rPr>
              <a:t>presentation-creation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4449600"/>
            <a:ext cx="8637840" cy="19080"/>
            <a:chOff x="512640" y="4449600"/>
            <a:chExt cx="863784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44960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457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44C1F41E-A166-41BC-92DD-67DBAB20ED66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871560"/>
            <a:ext cx="8637840" cy="12600"/>
            <a:chOff x="512640" y="871560"/>
            <a:chExt cx="8637840" cy="1260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87156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876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878040"/>
            <a:ext cx="8637840" cy="12600"/>
            <a:chOff x="512640" y="87804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8780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880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63000"/>
            <a:ext cx="28958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5394240"/>
            <a:ext cx="758880" cy="2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D30F3726-6F4C-404E-9604-D68F6741046B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2865600"/>
            <a:ext cx="8637840" cy="10800"/>
            <a:chOff x="512640" y="2865600"/>
            <a:chExt cx="8637840" cy="1080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2865600"/>
              <a:ext cx="8637840" cy="1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2870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4d4d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4d4d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4d4d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4d4d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4FA9D097-85D4-4A08-B537-7D198EF5A475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5010120"/>
            <a:ext cx="8637840" cy="12600"/>
            <a:chOff x="512640" y="501012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01012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5016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5397120"/>
            <a:ext cx="7621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B758E93E-1B4E-4B3C-A426-BD2911E0ABB8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B31F4663-E3D8-40E4-BCA3-EAE8B9ECBA57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4870440"/>
            <a:ext cx="8637840" cy="12600"/>
            <a:chOff x="512640" y="4870440"/>
            <a:chExt cx="863784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487044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4873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712800"/>
                  <a:tab algn="l" pos="1425600"/>
                  <a:tab algn="l" pos="2138400"/>
                  <a:tab algn="l" pos="2851200"/>
                  <a:tab algn="l" pos="3564000"/>
                  <a:tab algn="l" pos="4276800"/>
                  <a:tab algn="l" pos="4989600"/>
                  <a:tab algn="l" pos="5702400"/>
                  <a:tab algn="l" pos="6415200"/>
                  <a:tab algn="l" pos="7128000"/>
                  <a:tab algn="l" pos="7840800"/>
                  <a:tab algn="l" pos="8553600"/>
                  <a:tab algn="l" pos="9266400"/>
                  <a:tab algn="l" pos="9979200"/>
                  <a:tab algn="l" pos="10691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A7C84301-4F79-4995-961E-84F2455C890A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E6000BBF-E87F-4057-8E9B-4C16754B9F73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f0ad00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f0ad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a637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a637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a6378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63000"/>
            <a:ext cx="25146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3000"/>
            <a:ext cx="335304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5397120"/>
            <a:ext cx="7621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  <a:defRPr b="0" lang="ru-RU" sz="1200" spc="-1" strike="noStrike">
                <a:solidFill>
                  <a:srgbClr val="d398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fld id="{D7E6A178-EBC2-4F56-BF34-E18096153F80}" type="slidenum">
              <a:rPr b="0" lang="ru-RU" sz="1200" spc="-1" strike="noStrike">
                <a:solidFill>
                  <a:srgbClr val="d398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Рисунок 5" descr="НКСЭ.jpg"/>
          <p:cNvPicPr/>
          <p:nvPr/>
        </p:nvPicPr>
        <p:blipFill>
          <a:blip r:embed="rId1"/>
          <a:stretch/>
        </p:blipFill>
        <p:spPr>
          <a:xfrm>
            <a:off x="2143080" y="20718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7"/>
          <p:cNvSpPr/>
          <p:nvPr/>
        </p:nvSpPr>
        <p:spPr>
          <a:xfrm>
            <a:off x="297000" y="426960"/>
            <a:ext cx="859464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33473"/>
                </a:solidFill>
                <a:latin typeface="Franklin Gothic Book"/>
              </a:rPr>
              <a:t>Новороссийский колледж строительства и эконом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33473"/>
                </a:solidFill>
                <a:latin typeface="Franklin Gothic Book"/>
              </a:rPr>
              <a:t>Сравнительный анализ результатов СПТ и мониторинга тревожности студ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Заголовок 1" descr=""/>
          <p:cNvPicPr/>
          <p:nvPr/>
        </p:nvPicPr>
        <p:blipFill>
          <a:blip r:embed="rId1"/>
          <a:stretch/>
        </p:blipFill>
        <p:spPr>
          <a:xfrm>
            <a:off x="1341360" y="195120"/>
            <a:ext cx="6454800" cy="908280"/>
          </a:xfrm>
          <a:prstGeom prst="rect">
            <a:avLst/>
          </a:prstGeom>
          <a:ln w="0">
            <a:noFill/>
          </a:ln>
        </p:spPr>
      </p:pic>
      <p:pic>
        <p:nvPicPr>
          <p:cNvPr id="527" name="Схема 3" descr=""/>
          <p:cNvPicPr/>
          <p:nvPr/>
        </p:nvPicPr>
        <p:blipFill>
          <a:blip r:embed="rId2"/>
          <a:stretch/>
        </p:blipFill>
        <p:spPr>
          <a:xfrm>
            <a:off x="628560" y="1395360"/>
            <a:ext cx="807084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254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 как СПТ носит, прежде всего, профилактический характер и призвано удержать несовершеннолетних студентов  от «экспериментов» с ПАВ, необходимо своевременно принять необходимые меры профилактики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ы всегда ориентируем  профилактическую работу с несовершеннолетними на позитивное мышление и здоровый образ жизни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о привлекаем для проведения бесед  специалистов, работающих в специализированных медицинских учреждениях и организациях, деятельность которых направлена на профилактику незаконного потребления наркотических средств и психотропных веществ. 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Заголовок 1" descr=""/>
          <p:cNvPicPr/>
          <p:nvPr/>
        </p:nvPicPr>
        <p:blipFill>
          <a:blip r:embed="rId1"/>
          <a:stretch/>
        </p:blipFill>
        <p:spPr>
          <a:xfrm>
            <a:off x="596880" y="219240"/>
            <a:ext cx="8559720" cy="8413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285840" y="1282680"/>
            <a:ext cx="85010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Arial"/>
              </a:rPr>
              <a:t>Групповые формы: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роведение индивидуальных бесед, направленных на формирование жизнестойкости, уверенности в себе, устойчивости к возможным стрессовым ситуациям в период сдачи экзаменов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Ведение информационно-просветительских бесед по профилактике курения, алкоголизма, наркомании и т.д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Цикл классных часов с использованием презентаций и видеоматериалов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Психологические беседы в группах 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«Родительский всеобуч»  онлайн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50000"/>
              </a:lnSpc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.Организация бесед с врачом психоневрологического диспансера по предупреждению аутоагрессивного и деструктивного поведения студентов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buClr>
                <a:srgbClr val="f0ad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254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304920" y="107172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вместная работа классного руководителя и преподавателей. Наблюдение за поведением студентов группы «особого внимания».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ации и коррекционные занятия со студентами группы «особого внимания» по устранению и решению личностных проблем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внеурочной занятости студентов группы «особого внимания». Привлечение студентов группы «особого внимания» к участию в творческих мероприятиях колледжа, в различных конкурсах, олимпиадах, викторинах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систематических занятий физкультурой и спортом (секций, клубов, соревнований) с привлечением студентов группы «особого внимания» к участию в спортивных и военно-патриотических мероприятиях, соревнованиях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1" descr=""/>
          <p:cNvPicPr/>
          <p:nvPr/>
        </p:nvPicPr>
        <p:blipFill>
          <a:blip r:embed="rId1"/>
          <a:stretch/>
        </p:blipFill>
        <p:spPr>
          <a:xfrm>
            <a:off x="237960" y="384120"/>
            <a:ext cx="8753760" cy="73188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беседы по профилактике правонарушений, деструктивного и зависимого поведения, предупреждения употребления наркотиков и алкоголя, курения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ндивидуальные беседы по формированию жизнестойкости,  профилактике аутодеструктивного и аддиктивного поведения, развития стрессоустойчивости и коммуникативной компетентности,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ивлечение студентов «группы риска» к участию в конкурсах рисунков, плакатов, буклетов и т.д.  по пропаганде ЗОЖ и профилактике употребления ПАВ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овлечение студентов «группы риска» в социально-значимую деятельность и общественную работу в группе, колледже, городе (дежурство, трудовые десанты, волонтёрское движение, акции)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Заголовок 1" descr=""/>
          <p:cNvPicPr/>
          <p:nvPr/>
        </p:nvPicPr>
        <p:blipFill>
          <a:blip r:embed="rId1"/>
          <a:stretch/>
        </p:blipFill>
        <p:spPr>
          <a:xfrm>
            <a:off x="1146240" y="334800"/>
            <a:ext cx="6364080" cy="622440"/>
          </a:xfrm>
          <a:prstGeom prst="rect">
            <a:avLst/>
          </a:prstGeom>
          <a:ln w="0">
            <a:noFill/>
          </a:ln>
        </p:spPr>
      </p:pic>
      <p:pic>
        <p:nvPicPr>
          <p:cNvPr id="537" name="Объект 3" descr=""/>
          <p:cNvPicPr/>
          <p:nvPr/>
        </p:nvPicPr>
        <p:blipFill>
          <a:blip r:embed="rId2"/>
          <a:stretch/>
        </p:blipFill>
        <p:spPr>
          <a:xfrm>
            <a:off x="512640" y="1225440"/>
            <a:ext cx="8283600" cy="424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268200" y="285840"/>
            <a:ext cx="8723520" cy="561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304920" y="1142640"/>
            <a:ext cx="8686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-68400" algn="just"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a6378"/>
                </a:solidFill>
                <a:latin typeface="Franklin Gothic Book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 госпитальной шкале тревоги и депрессии HADS (А.С. Зигмонд и Р.П. Снайта)  тестируем всех студентов 1-2 курса (нл). Выявлением повышенный уровень тревоги и депрессии.(октябрь) То есть, предполагаем,  в латентную группу СПТ они попали именно по этим параметрам (не исключая остальных факторов риска)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лучается, мы с ними работаем ДО получения результатов СПТ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имея информации, по каким факторам студенты вошли в латентную группу СПТ, мы дополнительно их тестируем, тратим время и резурсы, выявляя, какие факторы риска преобладают у них.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ледовательно, зная КАЧЕСТВЕННЫЕ результаты латентной группы СПТ, можно :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. Сразу сформировать целевые группы  для коррекции и профилактики, не тратя времени на диагностику и уже в ноябре полноценно работать и менно с целевыми группами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Можно обьяснить родителям и студентам причины направления на медосмотр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Снизить уровень тревожности студентов и напряженности родителей перед прохождением медосмотра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marL="68400" indent="-68400" algn="just"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828720" y="4906800"/>
            <a:ext cx="8248680" cy="824040"/>
          </a:xfrm>
          <a:prstGeom prst="rect">
            <a:avLst/>
          </a:prstGeom>
          <a:ln w="0">
            <a:noFill/>
          </a:ln>
        </p:spPr>
      </p:pic>
      <p:pic>
        <p:nvPicPr>
          <p:cNvPr id="541" name="Рисунок 6" descr="НКСЭ.jpg"/>
          <p:cNvPicPr/>
          <p:nvPr/>
        </p:nvPicPr>
        <p:blipFill>
          <a:blip r:embed="rId2"/>
          <a:stretch/>
        </p:blipFill>
        <p:spPr>
          <a:xfrm>
            <a:off x="987480" y="341280"/>
            <a:ext cx="7527960" cy="4602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318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304920" y="1143000"/>
            <a:ext cx="8686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Одним из путей решения важной социальной задачи по профилактике суицида является развитие и формирование эмоциональной устойчивости относительно различных воздействий внешней среды. 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Тревожность и депрессия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непосредственно связаны с психоэмоциональным напряжением и являются маркерами для более внимательного отношения к студенту и дополнительного изучения личности. Выявление проблем в структуре личности, препятствующих адаптации в новых жизненных условиях, позволяет правильно организовать работу со студентами. 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Успешная адаптация и учебная деятельность студентов зависит, в том числе, и психоэмоционального состояния. Изучение психоэмоциональных состояний (используем госпитальную шкалу) студентов позволяет разработать рекомендации по индивидуальному психолого-педагогическому воздействию, что обеспечивает понижение тревожности, повышение эмоциональной устойчивости и настроения.</a:t>
            </a:r>
            <a:r>
              <a:rPr b="1" lang="ru-RU" sz="14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снижение аутодеструктивного риска, развитие стрессоустойчивости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Franklin Gothic Book"/>
              </a:rPr>
              <a:t>Задачи тестирования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1. Выявить уровень тревожности и уровень депрессии у несовершеннолетних студентов колледжа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Franklin Gothic Book"/>
              </a:rPr>
              <a:t>2. Составить рекомендации для классных руководителей  по индивидуальной работе со студентами по снижению уровня тревожности и депрессии на основе результатов исследования.</a:t>
            </a: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  <a:p>
            <a:pPr marL="178560" indent="-1785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 txBox="1"/>
          <p:nvPr/>
        </p:nvSpPr>
        <p:spPr>
          <a:xfrm>
            <a:off x="304920" y="1142640"/>
            <a:ext cx="86868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ЕМ СПТ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– это психодиагностическое обследование, позволяющее выявлять исключительно психологические "факторы риска" возможного вовлечения в зависимое поведение, связанные с дефицитом ресурсов психологической "устойчивости" личности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Полученные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результаты СПТ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носят прогностический, вероятностный характер.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Количество отказов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от проведения СПТ всего-2 из 2987 ( 0, 06%)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 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Franklin Gothic Book"/>
                <a:ea typeface="Times New Roman"/>
              </a:rPr>
              <a:t>В ходе тестирования 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были определенные трудности при ответах, так как вопросы были непонятны некоторым респондентам, имели двойной смысл и сложное построение. Приходилось объяснять то или иное выражение, что затрудняло процесс выполнения и занимало много времени и в дальнейшем повлияло на показател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  <a:ea typeface="Times New Roman"/>
              </a:rPr>
              <a:t>.</a:t>
            </a:r>
            <a:endParaRPr b="0" lang="en-US" sz="3200" spc="-1" strike="noStrike">
              <a:solidFill>
                <a:srgbClr val="5a6378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ходе СПТ осуществлялась оценка вероятности вовлечения в аддиктивное поведение на основе соотношения факторов риска и факторов защиты, воздействующих на обследуемых</a:t>
            </a: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Заголовок 1" descr=""/>
          <p:cNvPicPr/>
          <p:nvPr/>
        </p:nvPicPr>
        <p:blipFill>
          <a:blip r:embed="rId1"/>
          <a:stretch/>
        </p:blipFill>
        <p:spPr>
          <a:xfrm>
            <a:off x="208080" y="384120"/>
            <a:ext cx="8783640" cy="80496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 txBox="1"/>
          <p:nvPr/>
        </p:nvSpPr>
        <p:spPr>
          <a:xfrm>
            <a:off x="304920" y="1295280"/>
            <a:ext cx="86868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требность в одобрении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одверженность влиянию группы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инятие асоциальных установок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клонность к риску (опасности)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мпульсивность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Тревожность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Фрустрация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ркопотребление в социальном окружении</a:t>
            </a: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d00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a6378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2" descr=""/>
          <p:cNvPicPr/>
          <p:nvPr/>
        </p:nvPicPr>
        <p:blipFill>
          <a:blip r:embed="rId1"/>
          <a:stretch/>
        </p:blipFill>
        <p:spPr>
          <a:xfrm>
            <a:off x="1073160" y="231840"/>
            <a:ext cx="6827760" cy="907920"/>
          </a:xfrm>
          <a:prstGeom prst="rect">
            <a:avLst/>
          </a:prstGeom>
          <a:ln w="0">
            <a:noFill/>
          </a:ln>
        </p:spPr>
      </p:pic>
      <p:pic>
        <p:nvPicPr>
          <p:cNvPr id="510" name="Схема 5" descr=""/>
          <p:cNvPicPr/>
          <p:nvPr/>
        </p:nvPicPr>
        <p:blipFill>
          <a:blip r:embed="rId2"/>
          <a:stretch/>
        </p:blipFill>
        <p:spPr>
          <a:xfrm>
            <a:off x="201600" y="1200240"/>
            <a:ext cx="8734320" cy="409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542880" y="231840"/>
            <a:ext cx="8143920" cy="858600"/>
          </a:xfrm>
          <a:prstGeom prst="rect">
            <a:avLst/>
          </a:prstGeom>
          <a:ln w="0">
            <a:noFill/>
          </a:ln>
        </p:spPr>
      </p:pic>
      <p:sp>
        <p:nvSpPr>
          <p:cNvPr id="512" name="Овал 4"/>
          <p:cNvSpPr/>
          <p:nvPr/>
        </p:nvSpPr>
        <p:spPr>
          <a:xfrm>
            <a:off x="357120" y="1214280"/>
            <a:ext cx="647640" cy="54000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5"/>
          <p:cNvSpPr/>
          <p:nvPr/>
        </p:nvSpPr>
        <p:spPr>
          <a:xfrm>
            <a:off x="357120" y="21430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6"/>
          <p:cNvSpPr/>
          <p:nvPr/>
        </p:nvSpPr>
        <p:spPr>
          <a:xfrm>
            <a:off x="357120" y="30718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7"/>
          <p:cNvSpPr/>
          <p:nvPr/>
        </p:nvSpPr>
        <p:spPr>
          <a:xfrm>
            <a:off x="357120" y="4000680"/>
            <a:ext cx="647640" cy="5396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"/>
          <p:cNvSpPr/>
          <p:nvPr/>
        </p:nvSpPr>
        <p:spPr>
          <a:xfrm>
            <a:off x="1187280" y="996840"/>
            <a:ext cx="76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становить социально - психологические условия (социальную ситуацию развития обучающихся), формирующие психологическую готовность 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структивному поведению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 лиц подросткового и юношеского возра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9"/>
          <p:cNvSpPr/>
          <p:nvPr/>
        </p:nvSpPr>
        <p:spPr>
          <a:xfrm>
            <a:off x="1214280" y="1913040"/>
            <a:ext cx="731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ыявить обучающихся с повышенной  вероятностью  вовлечения в различные формы деструктивного  повед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15"/>
          <p:cNvSpPr/>
          <p:nvPr/>
        </p:nvSpPr>
        <p:spPr>
          <a:xfrm>
            <a:off x="1214280" y="2928960"/>
            <a:ext cx="655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индивидуальные и сводную карты рисков по каждой группе в С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7"/>
          <p:cNvSpPr/>
          <p:nvPr/>
        </p:nvSpPr>
        <p:spPr>
          <a:xfrm>
            <a:off x="1214280" y="407196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рганизовать  адресную  и системную  работу с обучающимися в групповой и индивидуальной  форме, направленную на профилактику вовлечения  их в деструктивные формы по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"/>
          <p:cNvGraphicFramePr/>
          <p:nvPr/>
        </p:nvGraphicFramePr>
        <p:xfrm>
          <a:off x="1258920" y="1357200"/>
          <a:ext cx="6742080" cy="3727440"/>
        </p:xfrm>
        <a:graphic>
          <a:graphicData uri="http://schemas.openxmlformats.org/drawingml/2006/table">
            <a:tbl>
              <a:tblPr/>
              <a:tblGrid>
                <a:gridCol w="1650960"/>
                <a:gridCol w="1720800"/>
                <a:gridCol w="1684440"/>
                <a:gridCol w="168588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го прошло СП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личество студентов  латентной груп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нт выяв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,7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4792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475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Заголовок 1" descr=""/>
          <p:cNvPicPr/>
          <p:nvPr/>
        </p:nvPicPr>
        <p:blipFill>
          <a:blip r:embed="rId1"/>
          <a:stretch/>
        </p:blipFill>
        <p:spPr>
          <a:xfrm>
            <a:off x="304920" y="189000"/>
            <a:ext cx="8686800" cy="66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3" name=""/>
          <p:cNvGraphicFramePr/>
          <p:nvPr/>
        </p:nvGraphicFramePr>
        <p:xfrm>
          <a:off x="428760" y="1000080"/>
          <a:ext cx="8358120" cy="3760920"/>
        </p:xfrm>
        <a:graphic>
          <a:graphicData uri="http://schemas.openxmlformats.org/drawingml/2006/table">
            <a:tbl>
              <a:tblPr/>
              <a:tblGrid>
                <a:gridCol w="714240"/>
                <a:gridCol w="666720"/>
                <a:gridCol w="654120"/>
                <a:gridCol w="581040"/>
                <a:gridCol w="654120"/>
                <a:gridCol w="726840"/>
                <a:gridCol w="581040"/>
                <a:gridCol w="654120"/>
                <a:gridCol w="654120"/>
                <a:gridCol w="1017720"/>
                <a:gridCol w="1454040"/>
              </a:tblGrid>
              <a:tr h="945360"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д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gridSpan="3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евож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пре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 и К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% КТ+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  <a:tc rowSpan="2"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твержденные результаты (направлены на консультацию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76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0732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кур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800640"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5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304920" y="384120"/>
            <a:ext cx="86868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5" name=""/>
          <p:cNvGraphicFramePr/>
          <p:nvPr/>
        </p:nvGraphicFramePr>
        <p:xfrm>
          <a:off x="785880" y="1295280"/>
          <a:ext cx="7286400" cy="3260880"/>
        </p:xfrm>
        <a:graphic>
          <a:graphicData uri="http://schemas.openxmlformats.org/drawingml/2006/table">
            <a:tbl>
              <a:tblPr/>
              <a:tblGrid>
                <a:gridCol w="1255680"/>
                <a:gridCol w="2030400"/>
                <a:gridCol w="2071800"/>
                <a:gridCol w="1928520"/>
              </a:tblGrid>
              <a:tr h="19306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одтвержденная группа риска по тестированию в колледж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атентная группа по СП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овпадение по двум методи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кур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кур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се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406080"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9080" rIns="10908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9080" marR="10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5T17:04:43Z</dcterms:created>
  <dc:creator>Юрий Козырев</dc:creator>
  <dc:description/>
  <dc:language>en-US</dc:language>
  <cp:lastModifiedBy>Пользователь</cp:lastModifiedBy>
  <dcterms:modified xsi:type="dcterms:W3CDTF">2022-06-14T08:32:49Z</dcterms:modified>
  <cp:revision>329</cp:revision>
  <dc:subject/>
  <dc:title>Презентация PowerPoint</dc:title>
</cp:coreProperties>
</file>