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9758-A21B-4626-83ED-F48BF1A9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7953-119F-4122-A702-85EDA696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CBAE-539A-43F6-A353-41270E8D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FFA5-BF7F-44F5-A7B6-453928EE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DCFF-269A-4D87-9A98-002E0EEC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447-5042-48F5-BA0C-B9FF22B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FCF-CCBC-4DC6-93E7-DD8E6FA9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157-9721-4E4A-BAFA-8DC120F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79C-811E-4A71-901C-F3DA23B2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AC3B-AA62-44B6-BCDD-0FB0EDE3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CF2-680D-4E3F-BEBE-BB96863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D4B4-959C-4FC3-9A19-47BA7D0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2833-5DC4-48D7-A5A1-F575379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B19-0573-4FF6-B266-5FB8FBC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308-E65F-4D83-9009-BB0D892F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780-5431-41E3-B7B5-64CF0007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3FA2-FD5C-4587-8774-8CE4D37B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EED4-A4F5-469D-AFFE-6287A42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A00B-4722-454F-B6E9-A5B51E5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E2FE-5670-47BE-9C94-C07118E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164A-0ECD-423D-BFFC-64FC44FF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7EE5-FAB8-426F-AFA6-2351F1B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AE18-9060-4326-A867-9133FFE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B427-2DAE-4574-84EE-1087064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5427-53D0-4603-B854-F7067FB7DB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72D-EBC2-4163-972F-732BF698AC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uzz.ru/photos/7492884/scandinavian-style-on-a-budget-in-a-small-city-apartment-skandinavskiy-amsterda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сновы профилактики аутодеструктивного поведения подро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одготовка субспециалистов из числа работающих с конкретной группой подростков. С этой целью проводится интенсивная программа (24-часовой цикл занят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работа с подростками (долгосрочная программа в течение года — 39-часовой цикл 2 раза в неделю или 1-2раза в, месяц по 4-6 час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араллельная работа с родителями в течение года (16-ч совой цикл занятий 1-2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ЦЕДУРНЫЕ ФОРМЫ ПСИХОЛОГИЧЕСКОГО СОПРОВОЖДЕНИЯ В ПРОЕКТЕ «ПЕРЕШЕ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ые и проективные психологические мето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ая и групповая рефлек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гимнастические процедуры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ы саморегу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дневников участниками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, моделирующие школьные ситуации, ситуации с конфликтным содержанием, насильственным предложением употреб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косодержащие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евые игры со скрытым мотивом, обратной связ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зговой шту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тации, работа с вообра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-лекции по специаль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драм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ы индивидуальной и групповой психотерап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использование массовых мероприятий (дискот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руглые стол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виз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методических занятий с супервизо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cript MT Bold"/>
              </a:rPr>
              <a:t>ПРИМЕРНАЯ СТРУКТУРА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681120"/>
          <a:ext cx="9144000" cy="6176880"/>
        </p:xfrm>
        <a:graphic>
          <a:graphicData uri="http://schemas.openxmlformats.org/drawingml/2006/table">
            <a:tbl>
              <a:tblPr/>
              <a:tblGrid>
                <a:gridCol w="1200240"/>
                <a:gridCol w="909720"/>
                <a:gridCol w="2638080"/>
                <a:gridCol w="2324160"/>
                <a:gridCol w="207180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в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о заня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значить начал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 начал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 занят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торять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состояния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, оценк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оспосо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чем они пришли на группу, как себя сейчас ощущаю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, ассоциац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ветом и друг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, котор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 могу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нов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и мож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ключение в совместную деятельно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ъединение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здание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ожела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тмо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или мен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с четко определенными правил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трен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участвов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води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,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форм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иальн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нятие напряжения, устал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ключ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ую тем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можности приближа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щие к ново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иг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азнообразные активн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циальн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домашние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зможность «отстояться» сознанию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ировать энергию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рабатывать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навык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гу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тативные технологии, упражнения направлен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ра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спользованием музыкального ф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ить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осуществлят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 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я группы на протяжен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дура 1—2. «Информирова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ть правила, по которым будет жить группа в дальнейш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с вами предстоит прожить небольшую, но очень интенсивную жизнь в этом круге. Жизнь эта будет протекать по определенным правилам. Вот эти правила. Они предлагаются для вашего свободного обсуждения и принятия или непринятия 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мы будем работать от начала и до конца в одном составе. Желательно соблюдать дисциплину и ходить на все занятия, без переры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ихолог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се происходящее в группе не должно выноситься за ее пределы. Сами понимаете: если человек не присутствует в круге, не понимает сути происходящего, то он может неправильно истолковывать пересказанные события, извратить их. Все, что делается в круге, касается только членов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зированная» откровенность и искр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лены группы могут быть искренними в своих суждениях, откровенны настолько, насколько они считают возможным на данный момент, в атмосфере дан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-высказывания»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, чтобы каждый человек в группе начинал говорить только от своего имени, так он может нести ответственность за то, что в реальности думает, чувствует. Обратный пример: «Все считают, что Сережа не прав». Правильный вариант: «Я считаю, что Сережа поступил несправедливо, в связи с чем я испытываю разочарова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о «Стоп!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т член группы, который не хочет отвечать на какой-либо вопрос, участвовать в какой-либо игре или процедуре из-за нежелания быть искренним или из-за неготовности быть откровенным, имеет право сказать «Стоп!» и тем самым исключить себя из участия в процеду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, ответ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го за результаты деятельности 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о правило подразумевает зависимость эффективности групповой работы от вклада каждого ее члена и необходимость трудиться не только для себя, для решения собственных проблем, но и для других, ибо работа на другого есть способ познания себ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3400" y="1828800"/>
            <a:ext cx="2847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ТУАЛЬНЫ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https://samopoznanie.kz/avatars/objects/3-234338_1_6.jpg?1556393924"/>
          <p:cNvPicPr/>
          <p:nvPr/>
        </p:nvPicPr>
        <p:blipFill>
          <a:blip r:embed="rId1"/>
          <a:stretch/>
        </p:blipFill>
        <p:spPr>
          <a:xfrm>
            <a:off x="0" y="142920"/>
            <a:ext cx="59180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85880"/>
            <a:ext cx="914400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комплексного развития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Цветок потенциа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успешно применена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ки и корре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девиантного синдрома адаптации (ОДС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синдром относится к донозологическим ступе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й адаптации на трех уровня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чес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отивация избегания неуспех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уверенное поведение, низкая «социальная смел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 д.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ревожность, пониженный фон настроения, раздражительность, агрессивность и т. 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нитив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искаженная карта мировосприятия, пессимистическое восприятие окружающего мир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уровень имеет набор определенных компонентов, являющихся, в свою очередь, индикаторами степени выраженности синдр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больше формируется и проявляется компонентов ОДС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выше риск возникновения нарушений нервно-психической регуля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ствием чего становятся различные расстройства здоровь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вно-психические пробл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виантные формы по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https://3.404content.com/1/81/69/1027570088390689852/fullsize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42560" y="571680"/>
            <a:ext cx="90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ое внимание необходимо уделить возрастанию уровня жизненной компетентности, включающей в себя социальную, личностную и экологическую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пособность личности эффективно выстраивать свои отношения с окружающими, соответствовать требованиям, предъявляемым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еренная самооценка, наличие адекватных механизмов психологической защиты, поведенческие шаблоны, способствующие приспособлению, копинг-стратегии и другие личностные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ажительное отношение к природе, выстраивание конструктивных отношений с окружением, критичность в восприятии информации из средств массовой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программы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жде всего, содействие в формировании личностью системы адекватных и продуктивных представлений, своеобразной концепции жизни, обеспечивающей развитие и укрепление ее социальной, личностной и экологическ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ая в себе личность, имеющая позитивное отношение к самой себе, своим знаниям, умеющая решать конфликты с помощью переговоров, правильно оценивающая свои чувства и потребности, способная противостоять негативному влиянию группы — приобретает способность сознательно выстраивать свое поведение на принятие и формирование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680" y="42840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компонентов жизненной компетентности согласно потенци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14280"/>
          <a:ext cx="8643960" cy="5291280"/>
        </p:xfrm>
        <a:graphic>
          <a:graphicData uri="http://schemas.openxmlformats.org/drawingml/2006/table">
            <a:tbl>
              <a:tblPr/>
              <a:tblGrid>
                <a:gridCol w="1765440"/>
                <a:gridCol w="6878520"/>
              </a:tblGrid>
              <a:tr h="244800">
                <a:tc>
                  <a:txBody>
                    <a:bodyPr lIns="23400" rIns="2340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819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 жизненной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раз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мышление; • умение анализировать результаты своей деятельности; • знания о здоровом образе жизни; • предупреждение 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с чувствами и их выражение; • умение определять свои чувства; • умение распознавать эмоциональные состояния других людей на основе наблюдения за внешними проявлениями эмо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в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ответственности; • умение делать выбор; • принятие решений;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декватная самооценка; • само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воего тела, развитие его; • умение управлять своим т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рживать давление группы; • навык эффективного невербального общения; • умение преодолевать конфликты; • умение встречать других людей без предубеждений; • умение принимать людей с их достоинствами и недостатками; • умение разрабатывать взаимовыручку (сотрудничество, помощ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ость; • созидательность; •спонтанность;  • естествен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24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ать бескорыстное добро; • сопереживание другим; • осознание себя частичкой мира, уважение и бережное отношение к природе, ответственное обращение с другими людьми и окружающей средой в ц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ПОТЕНЦИАЛ РАЗУМА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интеллекту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развивать интеллект и уметь им пользо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ать объективные знания о формах проявления и последствиях девиант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висимостях к табакокурению, алкоголю, наркотикам и другим психоактивным веществ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подростка объективной информацией о девиантном поведении, ег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их собственное отношение этой проблеме, знания о действии на организм химических веществ, меняющих состояние сознания, о путях развития наркологических заболеваний во всех асп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альтернативных проявлениюдевиантной активности (в том числе употреблению наркотических веществ) способов получения удовольствия, решения проблем и использования свободного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4964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1. Синквейн - Работа с переживаниями с помощью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иблиотерапии можно отн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лько чтение чужих произведений, с выражением или бе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 сочинение своих поэм, саг, стихов, ска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чтение с определенной интонацией может изменить эмоциональное состояние челове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в группе и декламация может способствовать еще более глубокой проработке внутренних проб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умага формат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,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агрессия — активность, нацеленная (осознанно или неосознанно) на причинение себе вреда в физической и психической сф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2560" y="428760"/>
            <a:ext cx="900108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визуальных, аудиальных, кинестетически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предлагается занять удобное для себя по­ложение (встать, присесть, сесть на пол, если есть соответствующие условия, — по желан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. Представьте цвет, звук, мело­дию, движения, с помощью которых можно было бы выразить собственное состояние «здесь и теперь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дивидуальн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значимое переживание из жизни, либо то, что вам мешает, либо ситуацию, в которой вы часто оказыв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 стихотворение согласно следующим прави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ы 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 состоит из 5 строк 11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одно слово – название переживания (лучше существите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 два слова – описание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3 слова – действие, которое возникло в результате этого пере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четыре слова – описание чувства, которое возникло в результате эти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повтор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0080" y="57168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иография в 5 главах (Порша Нельсон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иду по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адаю в н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теряна... Я беспомощ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ужна вечность, чтобы выбраться отту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елаю вид, что не вижу 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ова пада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могу поверить, что я в том же самом 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-прежнему нужно много времени, чтобы выбра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что она та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 равно падаю… это привыч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глаза откры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где 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ираюсь немедлен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хожу ее вокру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иду по другой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стихотворение о присущей вам чер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в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женщ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легко сделать боль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чит быть силь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ставляет побеж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уязвима и я - женщина (искл. из прави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ПОТЕНЦИАЛ ВОЛИ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личност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 самореализации; умение ставить цели и достигать их, выбирая адекват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е подростка к изучению своеобразия собственной личности, сильных и слабых сторон, Я-концепции (самооценки), стратегий достижения успеха; к пониманию своих ролей и возможных способов реализации себя через эти роли; к заботе о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развитой концепции самосознания у подростка, собственной системы ценностей, установок, способности делать самостоятельный выбор, контролировать свое поведение и жизнь, решать простые и сложные жизненные проблемы, умения оценивать ту или иную ситуацию и свои возможности контролиро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571320"/>
            <a:ext cx="6357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вогодний S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щания важно правильно формулировать. Как именно? — Так, чтобы они был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кретными, измеримыми, достижимыми, реалистичными и основанными на време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им наверняка знакома аббревиатура SMART — вот так это и называется. «Похудеть к лету» — скорее всего, не сработает. А вот пример удачного намерения: «заниматься 2 раза в неделю в спортзале, по 1,5 часа — по понедельникам и средам до работы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ужно ставить 1-2 цели, не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Чем больше целей, тем меньше вероятность их достиже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 используйте прошлогодние недостигнутые це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приведет к накоплению чувства вины, стыда и раздражения на себя самого, увеличит самокритику. Все это не помогает идти по пути к запланированному. Лучше возьмите что-нибудь новое или подумайте о причинах, по которым вы не достигли желаемой цели за прошедший год. Может быть, все дело в том, что цель была недостижи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шите все свои желания письмен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обавьте конкретные этапы и шаги, которые требуются для выполнения данных себе обещан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ьмитесь за реализацию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медленно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е завтра, не 1 января, а прямо сейчас! Тогда, поднимая новогодний бокал, вы совершенно точно будете знать, чего именно хотите достичь в новом году и как получите желаемое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ото написано: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вы ждете знака, то вот он». Действу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Скандинавский  by Louise de Mira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6800" y="785880"/>
            <a:ext cx="27972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ПОТЕНЦИАЛ ЧУВСТВ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эмоцион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80836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онгруэнтно выражать свои чувства, понимать и безоценочно принимать чувства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я сопереживать окружающим и понимать их чувства, выработка навыков узнавания и дифференцирования собственных эмоций, повышение эмоционального интеллекта, «культивирование» чувств, что означает не сдерживание эмоциональных проявлений, а цивилизованное выражени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едицинском плане опасны эмоции отрицательного характера, такие, как гнев, тоска, страх, боязнь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а их основе формируются так называемые психосоматически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рядом нежелательных свой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длительным последствием, нередко продолжаясь в течение ряда часов, даже после прекращения действия раздражающих фак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при частых и повторных проявлениях способны переходить в форму стационарного, устойчивого возбуждения мозга — в «застойную» фор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словиях стационарной отрицательной эмоции формируются мощные потоки нисходящих возбуждений, распространяющихся на внутренние органы, особенно на произвольно неуправляемые компоненты эмоций. Этим влияниям противостоят механизмы саморегуляции функциональных систем гомеостатическ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:\психофизиология\i2.jpg"/>
          <p:cNvPicPr/>
          <p:nvPr/>
        </p:nvPicPr>
        <p:blipFill>
          <a:blip r:embed="rId1"/>
          <a:stretch/>
        </p:blipFill>
        <p:spPr>
          <a:xfrm>
            <a:off x="1403280" y="0"/>
            <a:ext cx="623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44719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ыражаем эмоции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Е. Погу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Администратор\Pictures\3636460-700-144701363679235019977276501.jpg"/>
          <p:cNvPicPr/>
          <p:nvPr/>
        </p:nvPicPr>
        <p:blipFill>
          <a:blip r:embed="rId1"/>
          <a:stretch/>
        </p:blipFill>
        <p:spPr>
          <a:xfrm>
            <a:off x="5219640" y="-30240"/>
            <a:ext cx="39243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Администратор\Pictures\2660810-R3L8T8D-850-lioncub.jpg"/>
          <p:cNvPicPr/>
          <p:nvPr/>
        </p:nvPicPr>
        <p:blipFill>
          <a:blip r:embed="rId2"/>
          <a:stretch/>
        </p:blipFill>
        <p:spPr>
          <a:xfrm>
            <a:off x="0" y="3421080"/>
            <a:ext cx="529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3314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нализ способов выражения эмо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этого заполнить следующую табличку. В ней отражены четыре базовые эмоции (конечно, спектр наших эмоциональных проявлений намного разнообразнее; считается, что мы рождаемся со способностью выражать эти четыре базовые эмоции), а также способы, с помощью которых мы выражаем эти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если ты часто злишься – каким образом ты эту эмоцию выражаешь? Кричишь и швыряешь все вокруг? Тогда это и отражается в таблице, и это будет поведенческий способ выражения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же ты считаешь, что не злишься никогда (что, скорее всего, неправда), но зато тебя мучают мигрени и бессонница – то, вероятнее всего, ты можешь выражать свою злость только телесным способ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если ты понимаешь, что злишься, и идешь бить подушку, то это будет символический способ выражения гне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ты при этом приговариваешь, «как же ты меня разозлил!», то ты подключаешь и вербальный спосо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нужно проделать со всеми остальными эмоциями – печалью, радостью, страх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-28440"/>
            <a:ext cx="552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иды аутодеструктивного поведения в подростковом возрасте (Н.А. Польск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79930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чувства будут проявлять себя в полную силу, если каналы для выражения других «перекрыт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в семье был силен запрет на гнев и стр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я страха может маскироваться под эмоцию печали, а эмоция гнева – под эмоцию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это будет выглядеть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23760" y="1442880"/>
            <a:ext cx="5838840" cy="419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619440" y="4430880"/>
            <a:ext cx="5524560" cy="24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28760" y="642960"/>
            <a:ext cx="82915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ть, какие эмоции тебе в детстве запрещались, какие – разреша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эмоции ты сейчас разрешаешь себе, а какие – запрещаеш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ют ли таблиц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бывает так, что очень тихая девочка, которой запрещали гневаться, во взрослом возрасте начинает испытывать как будто бесконтрольный гнев – и тогда нужно посмотреть, а какую эмоцию она запрещает испытывать себе сейча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это бывает печаль или рад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того, какие эмоции нужно себе разрешить испытывать сейчас и каким способом (телесный, поведенческий, символический, вербальный) это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таблиц эмоций у партнеров по браку/общению – нередко бывает так, что они оказываются «зеркальными» – то, что разрешено у партнера, запрещено у нас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4. ПОТЕНЦИАЛ ТЕЛА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физи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физическую составляющую здоровья, осознавать собственную телесность как свойство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ние своего тела, изучение языка тела — «системы раннего оповещения», собственной «телесной географии» эмоциональных проявлений, умение контролировать и устранять мышечные зажимы, быть устойчивым, гибким, спонтанным; обучение методам психосоматической саморегуляции как конструктивной форме снятия последствий стресса; получение удовольствия во взаимодействии с телом через спорт, секс, тан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тяжести свое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МР – нервно-мышечная рела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тдохнуть за 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5. ОБЩЕСТВЕННЫЙ ПОТЕНЦИАЛ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соци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ность человека оптимально адаптироваться к социальным условиям, стремление постоянно повышать уровень коммуникативной компетентности, обретение чувства принадлежности ко всему челове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в социальной адаптации подростка. Научить устанавливать контакты с другими, развивать партнерские отношения, строить эффективное, взаимообогащающее общение; принимать и оказывать психологическую и социальную поддержку окружающим, быть способным обратиться при необходимости за помощью к друг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99680" y="928800"/>
            <a:ext cx="81867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Охота за мусор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анализируйте приведенный далее список. У вас есть 10 минут для подготовки и 30 минут, чтобы найти перечисленные ниже предметы и принести их в аудит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а команда всегда должна быть вместе, т.е. вы не можете разделиться и искать предметы параллельно. Если один из членов вашей команды заходит куда-либо, чтобы добыть предмет, остальные члены команды должны либо зайти вместе, либо ждать около входа. В ходе работы в группе присутствует наблюд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ным считается задание, если оно сделано точно в срок. За каждую минуту опоздания штраф — не засчитывается один принесенный предмет из списка. Таким образом не засчитывается столько предметов, на сколько минут опоздала команда. Сверьте часы с часами преподавателя до начала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6049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Неспособность к разрешению межличностных и межгрупповых конфликтов 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может послужить провоцирующим фактором к употреблению наркотиков. Часто практикуемая стратегия состоит в том, чтобы путем потребления наркотических средств уйти в сторону от решения проблем и конфликтов. Умение поговорить друг с другом, возможность доверить кому-то свои проблемы, выслушать другого и знать, где и у кого можно получить помощь, — важнейшие элементы профилактики 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6. КРЕАТИ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твор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0794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к созидающей активности, стремление творчески сам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ся в жизне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ь способность нестандартно мыслить и решать любые жизненные задачи посредством развитого доверия к творческой части своей личности и предоставления ей полной свободы в этой деятельности; научить генерировать оригинальные идеи, «опрокидывать границы» стереотипов, придавать завершенный вид продуктам своего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572472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общий рису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дминистратор\Desktop\психология цвета\оранжевый\4f914e4b2b633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7589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0" y="1571760"/>
            <a:ext cx="91440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а «Диалог» может использоваться на протяжении всей терапевтической работы для осуществления обратной связи, при отработке конфликтной ситуации. Возможно использование данной методики в семейной психотерапии при разрешении конфликтов между родителями, родителями и ребенком, а также для разрешения внутриличностных конфликтов (диалог разных частей личност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пастельных мелка различного цвета. Техническое средство для вос­произведения музыки. Записи музыкальных композ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 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себе пару, желательно, чтобы это был человек, с которым вы хуже всего находите общ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мелок, которым будет 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абота по пар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те диалог друг с другом посредством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йте  в любом месте листа, в каком хот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условие – говори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Этап вер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занимают стулья, развешивают на стены рисунки так, чтобы всем было удобно рассмотреть детали. В группе происходит обсуждение следующих вопросов по каждому рисунку или на выб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ли диалог? О чем они «говорили»? Кто был лидером, кто ведомым ? Было ли оказано сопротивление одной из сторон ? Кто первым начал, как это происходило – робко, тревожно или агрессивно ? Как вы думаете,  какие они люд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думаете, кто каким цветом рисовал ? Вам было приятно рисовать? Сейчас вам приятно видеть то, что получ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Заключ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делятся впечатлениями о совместной работе, отличалось ли их настроение, когда они рисовали первый и второй раз, изменилось ли их отношение к участнику «диалог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 «Шесть шляп мышления» Э. де Бо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Шесть шляп мышления» – это методика, предлагающая выполнять по одному мыслительному действию за раз, и, тем самым, разграничивать мыслительные операции, выполняя в определенный отрезок времени только одну мыслительную операцию. Не пытаясь сделать всё сразу, человек образно надевает по одной шляп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го имеется шесть разноцветных шляп, каждая из которых символизирует определенный тип мышлени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л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отвечает за сбор только объективных фактов, объективной информ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ас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роявление эмоций и чув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желт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позитивных сторон, преимуще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р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отрицательных сторон, недостатк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еле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творческий поиск, генерирование новых идей, альтернативных подход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ня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анализ всего мыслительного процесса (рефлексия мышления) и вывод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ы аутодеструктивного повед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.В.Ипа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утверждающий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низкая способность к саморегуляции поступков, неумение просчитывать последствия своих действий. Отличительная особенность – совершение мелких правонарушений, предпочтение рискованных занятий (озорство с риском для жизни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укция как способ самоутверждения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знакомство с конструктивными способами само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ющийся (напряженный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ражена потребность в одобрении и поддержке, переживание психотравмирующих отношений с родителями и сниженная склонность к зависимостям разного рода. Характерны уходы из дома, прогулы уроков, бессодержательное время препровождение в компании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обрести психологическую безопасность, снять внутренне напряжение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совладания с тревогой, навыками уверенн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ажатель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гко поддаются влиянию, склонны к зависимостям, но редко бывают асоциальны. У них более выражены конформность, общительность, навязчивость по сравнению с другими типами. Для них характерно преувеличение своей ранимости, что служит самоооправданием деструктивным поступкам, совершаемым в угоду «авторитетам». Часто встречаются употребление алкоголя, курение, случаи попрошайничества, прогулы школьных занят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ощ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азвитие критичности, самостоятельности мыш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монстра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тероидная манера поведения, склонность к зависимостям и низкой социальной отгороженности. Выраженный уровень саморазрушения, беспечность (курение, употребление алкоголя, наркотиков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, поиск внимания со стороны значимых людей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страивание просоциальной деятельности для самовы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тест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ая отгороженность, податливость влиянию, невыраженная склонность к нарушению порядка. Свойственны бродяжничесво, употреблениея алкоголя, попытки самоповреждений, бессодержательное времяпрепровождение с элементами азартных игр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 или «мщения» за реальные и мнимые обиды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неконфликтного толерантного общения с окружаю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УХО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духов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духовную природу человека, выражать высшие ценности в жи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оздания атмосферы принятия каждого, метода священного безмолвия открыть доступ к состояниям любви, веры, надежды. Дать опыт проживания высших состояний любви к себе, ближнему и к мир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озидательной жизнен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ц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ения,  данные Всемирным духовным университетом Брахма Кумар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филактика девиантного поведения в проекте «Перешеек» -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это, прежде всего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43360"/>
            <a:ext cx="822960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1) выработка личной компетентности (доверять себе, верить себе, понимать себ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2) стимулирование и поддержка обращения к своим обычным и высшим чувствам и желан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3) выработка социальной компетен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4) активное участие в создании своего жизнен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5) способность противостоять различного рода внешним стрессовым ситу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енная профилактическая  и коррекционная работа должна обеспечить следующее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подростку объективную информацию о последствиях проявления девиантной актив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устойчивую психологическую защиту от патологических иску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навыки решения сложных задач собствен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определенные поведенческие навыки, облегчающие следование по пути здорового стиля жиз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и объект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дел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ниверсальные» программы (направленные на всю группу населен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ыборочные» (направленные на определенную часть нас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«по показаниям» (составленные для тех, кто уже относится к различным группам рис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специалистами выделяются программы, направ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ную общест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м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стратегии и тактики осуществления профилактиче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формационный подход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ффективного обучен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влияния социальных фактор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формирования жизненных навык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льтернативной асоциальному поведению деятельност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укрепления здоровь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а отклоняющегося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социальной среды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(создание негативного общественного мнения по отношению к отклоняющемуся поведению, социальная реклама по формированию установок на здоровый образ жизни и трезвост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работа с молодежной субкультурой может быть организована форме движения «Молодежь против наркотиков» или одноименной акции с выступлением популярных рок-групп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Информирование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 направление психопрофилактической работы в форме лекций, бесед, распространения специальной литературы или видео- и телефиль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ное социальное обучение социально-важным навыкам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преимущественно реализуется в форме групповых тренингов (Тренинг резистентности (устойчивости) к негативному социальному влиянию, Тренинг ассертивности или аффективно-ценностного обучения, Тренинг формирования жизненны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деятельности, альтернативной девиантному поведению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льтернативными формами активности признаны: познание (путешествия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здорового образа жизни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ходит из представлений о личной ответственности за здоровье, гармонию с окружающим миром и своим организм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изация личностных ресурсов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ктивные занятия подростков спортом, их творческое самовыражение, участие в группах общения и личностного роста, арттерап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Минимизация негативных последствий девиантного поведения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пользуется в случаях уже сформированного отклоняющегося поведения. Она направлена на профилактику рецидивов или их негативных послед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440" y="642960"/>
            <a:ext cx="71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ретные задачи профилактик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программе «Перешеек» осуществляются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вышения квалификации/обучения специалистов (школьных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инических психологов, социальных педагогов, валеологов, учит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нятий по темам/семинаров-тренин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боты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светительской работы со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нсультаций и коррекции в преддверии завис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спользования развлекательных молодежных мероприятий (проведение тематических дискотек, спектак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21:39Z</dcterms:created>
  <dc:creator>1</dc:creator>
  <dc:description/>
  <dc:language>en-US</dc:language>
  <cp:lastModifiedBy>Евгения</cp:lastModifiedBy>
  <cp:lastPrinted>2011-12-17T17:50:48Z</cp:lastPrinted>
  <dcterms:modified xsi:type="dcterms:W3CDTF">2023-04-17T05:41:12Z</dcterms:modified>
  <cp:revision>39</cp:revision>
  <dc:subject/>
  <dc:title>Цель профилактической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